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514508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79200" y="739440"/>
            <a:ext cx="657720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78C11-EF09-4457-99CD-A08C8C295A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79200" y="739800"/>
            <a:ext cx="6577200" cy="37004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36455-CB6E-41A0-ADDE-0C177E1FB63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79200" y="739800"/>
            <a:ext cx="6577200" cy="37004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79D24-15A6-4F24-933C-C768AC57C5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79200" y="739800"/>
            <a:ext cx="6577200" cy="37004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5CB9-9B85-43C8-861E-8D82D92FDA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79200" y="739800"/>
            <a:ext cx="6577200" cy="37004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51FD9-FEB5-49B8-83F6-57F1F1F2847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79200" y="739800"/>
            <a:ext cx="6577200" cy="37004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1D567-0DDB-475E-91FD-3219EF1665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79200" y="739800"/>
            <a:ext cx="6577200" cy="37004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98009-6ED5-4FD2-949B-1EA8437C39A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79200" y="739800"/>
            <a:ext cx="6577200" cy="37004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62C2C-2677-492A-B4F2-FFC101C8EAC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79200" y="739800"/>
            <a:ext cx="6577200" cy="37004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6067B-79B7-45B4-B187-D5436E5CE2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79200" y="739800"/>
            <a:ext cx="6577200" cy="37004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D2801-E6A7-4D22-A523-4338356424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79200" y="739800"/>
            <a:ext cx="6577200" cy="37004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80358-36EB-44AE-BF0C-AD454DB64F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79200" y="739800"/>
            <a:ext cx="6577200" cy="37004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8DD70-DA30-496D-AE93-17C8C8691EE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79200" y="739800"/>
            <a:ext cx="6577200" cy="37004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3608B-26F3-43A4-A254-34DB57A3B28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79200" y="739800"/>
            <a:ext cx="6577200" cy="37004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F9BEB-EF32-49B3-8B26-F292E0B1D1F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79200" y="739800"/>
            <a:ext cx="6577200" cy="37004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E501D-0C1E-425A-9529-0FBF6B96D2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79200" y="739800"/>
            <a:ext cx="6577200" cy="37004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7C0F9-B516-4F59-B153-4B048717E5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79200" y="739800"/>
            <a:ext cx="6577200" cy="37004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80E81-A316-412C-8345-B04FFE3DECA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79200" y="739800"/>
            <a:ext cx="6577200" cy="37004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BE0D6-F80D-47EF-A1AA-E64D46DE75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79200" y="739800"/>
            <a:ext cx="6577200" cy="37004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21180-9AE4-4DB4-8CCA-F53D975305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9569-F60A-4FD5-81EB-C92265A62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66760" y="153720"/>
            <a:ext cx="78408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84520" y="1343160"/>
            <a:ext cx="7138800" cy="16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784520" y="3193200"/>
            <a:ext cx="7138800" cy="16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1CF6-59BF-4887-A63C-65FAA6391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66760" y="153720"/>
            <a:ext cx="78408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84520" y="1343160"/>
            <a:ext cx="3483720" cy="16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42840" y="1343160"/>
            <a:ext cx="3483720" cy="16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784520" y="3193200"/>
            <a:ext cx="3483720" cy="16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42840" y="3193200"/>
            <a:ext cx="3483720" cy="16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6DAB-3D9A-4822-8473-6293F0DF9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66760" y="153720"/>
            <a:ext cx="78408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84520" y="1343160"/>
            <a:ext cx="2298600" cy="16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98320" y="1343160"/>
            <a:ext cx="2298600" cy="16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12480" y="1343160"/>
            <a:ext cx="2298600" cy="16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784520" y="3193200"/>
            <a:ext cx="2298600" cy="16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98320" y="3193200"/>
            <a:ext cx="2298600" cy="16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12480" y="3193200"/>
            <a:ext cx="2298600" cy="16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7E70-F86A-488D-B920-00F368A9D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527FA-B5C0-4284-BBA6-7D6D4EFA7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66760" y="153720"/>
            <a:ext cx="78408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784520" y="1343160"/>
            <a:ext cx="7138800" cy="35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12F2D-4628-49A0-9456-15311CC78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66760" y="153720"/>
            <a:ext cx="78408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84520" y="1343160"/>
            <a:ext cx="713880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C1DA8-6E52-4082-B451-E388091DA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66760" y="153720"/>
            <a:ext cx="78408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84520" y="1343160"/>
            <a:ext cx="348372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442840" y="1343160"/>
            <a:ext cx="348372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5CF2F-1EEE-4CD8-9FFA-1AEB1F293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66760" y="153720"/>
            <a:ext cx="78408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31C3D-89E2-4D50-B8ED-88F0879D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66760" y="153720"/>
            <a:ext cx="78408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017B1-1EFD-41F9-8F73-E83BE1B55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66760" y="153720"/>
            <a:ext cx="78408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84520" y="1343160"/>
            <a:ext cx="3483720" cy="16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42840" y="1343160"/>
            <a:ext cx="348372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784520" y="3193200"/>
            <a:ext cx="3483720" cy="16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D8FB0-9CC5-4942-B748-20C30C25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66760" y="153720"/>
            <a:ext cx="78408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784520" y="1343160"/>
            <a:ext cx="7138800" cy="35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BABE-93DE-4DE0-B1D0-28996CE97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66760" y="153720"/>
            <a:ext cx="78408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84520" y="1343160"/>
            <a:ext cx="348372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42840" y="1343160"/>
            <a:ext cx="3483720" cy="16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442840" y="3193200"/>
            <a:ext cx="3483720" cy="16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11C88-B485-494E-BAC3-1E0B57C6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66760" y="153720"/>
            <a:ext cx="78408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84520" y="1343160"/>
            <a:ext cx="3483720" cy="16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442840" y="1343160"/>
            <a:ext cx="3483720" cy="16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784520" y="3193200"/>
            <a:ext cx="7138800" cy="16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CFF95-7813-4311-B47C-8C9331E0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66760" y="153720"/>
            <a:ext cx="78408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84520" y="1343160"/>
            <a:ext cx="7138800" cy="16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784520" y="3193200"/>
            <a:ext cx="7138800" cy="16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7BA11-C319-4336-A5AF-4EEFBBF47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66760" y="153720"/>
            <a:ext cx="78408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84520" y="1343160"/>
            <a:ext cx="3483720" cy="16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442840" y="1343160"/>
            <a:ext cx="3483720" cy="16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784520" y="3193200"/>
            <a:ext cx="3483720" cy="16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442840" y="3193200"/>
            <a:ext cx="3483720" cy="16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2E28F-E6AB-4DC2-AE9B-9D17A53AF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66760" y="153720"/>
            <a:ext cx="78408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84520" y="1343160"/>
            <a:ext cx="2298600" cy="16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98320" y="1343160"/>
            <a:ext cx="2298600" cy="16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12480" y="1343160"/>
            <a:ext cx="2298600" cy="16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784520" y="3193200"/>
            <a:ext cx="2298600" cy="16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198320" y="3193200"/>
            <a:ext cx="2298600" cy="16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12480" y="3193200"/>
            <a:ext cx="2298600" cy="16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37833-1E35-4165-9310-629DBDA8B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66760" y="153720"/>
            <a:ext cx="78408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784520" y="1343160"/>
            <a:ext cx="713880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0878-6402-4395-8F3C-0F4F6AC11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66760" y="153720"/>
            <a:ext cx="78408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784520" y="1343160"/>
            <a:ext cx="348372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42840" y="1343160"/>
            <a:ext cx="348372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9665-5154-42E6-8348-E3FFD1375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66760" y="153720"/>
            <a:ext cx="78408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E928-CE6E-4D2D-A2FD-22A875294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66760" y="153720"/>
            <a:ext cx="78408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BEAD-0526-462C-8AB3-E303A668D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66760" y="153720"/>
            <a:ext cx="78408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84520" y="1343160"/>
            <a:ext cx="3483720" cy="16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42840" y="1343160"/>
            <a:ext cx="348372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784520" y="3193200"/>
            <a:ext cx="3483720" cy="16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883F-2E57-426D-8108-520D3A38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66760" y="153720"/>
            <a:ext cx="78408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84520" y="1343160"/>
            <a:ext cx="348372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42840" y="1343160"/>
            <a:ext cx="3483720" cy="16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42840" y="3193200"/>
            <a:ext cx="3483720" cy="16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D132-A86C-4A12-9996-D588F05F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66760" y="153720"/>
            <a:ext cx="78408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84520" y="1343160"/>
            <a:ext cx="3483720" cy="16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42840" y="1343160"/>
            <a:ext cx="3483720" cy="16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84520" y="3193200"/>
            <a:ext cx="7138800" cy="16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C9E3-C2AB-4CCE-8162-892D8090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0" descr="C:\Documents and Settings\Rami\Desktop\Ramis Work\PresPro\Templates_05_May_2004\JPGS with Text\PPP_SABST_TXT_SkyScraper_Blue.jpg"/>
          <p:cNvPicPr/>
          <p:nvPr/>
        </p:nvPicPr>
        <p:blipFill>
          <a:blip r:embed="rId2"/>
          <a:stretch/>
        </p:blipFill>
        <p:spPr>
          <a:xfrm>
            <a:off x="0" y="-7920"/>
            <a:ext cx="9144000" cy="51595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66760" y="153720"/>
            <a:ext cx="78408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784520" y="1343160"/>
            <a:ext cx="713880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24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2" marL="1141560" indent="-227160">
              <a:spcBef>
                <a:spcPts val="624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3" marL="1598760" indent="-227160">
              <a:spcBef>
                <a:spcPts val="624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6440" y="4937040"/>
            <a:ext cx="1905120" cy="1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20760" y="4937040"/>
            <a:ext cx="2894040" cy="1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3366"/>
                </a:solidFill>
                <a:latin typeface="Times New Roman"/>
              </a:rPr>
              <a:t>www.PresentationPro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24760" y="4937040"/>
            <a:ext cx="1905120" cy="1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8A54B-0BBE-47C8-8EC4-FAA412C2E01D}" type="slidenum">
              <a:rPr b="0" lang="en-US" sz="9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3" descr="C:\Documents and Settings\Rami\Desktop\Ramis Work\PresPro\Templates_05_May_2004\JPGS with Text\PPP_SABST_TLE_SkyScraper_Blue.jpg"/>
          <p:cNvPicPr/>
          <p:nvPr/>
        </p:nvPicPr>
        <p:blipFill>
          <a:blip r:embed="rId2"/>
          <a:stretch/>
        </p:blipFill>
        <p:spPr>
          <a:xfrm>
            <a:off x="0" y="-12600"/>
            <a:ext cx="9144000" cy="51577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66760" y="153720"/>
            <a:ext cx="78408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784520" y="1343160"/>
            <a:ext cx="713880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24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2" marL="1141560" indent="-227160">
              <a:spcBef>
                <a:spcPts val="624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3" marL="1598760" indent="-227160">
              <a:spcBef>
                <a:spcPts val="624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5008680"/>
            <a:ext cx="1905120" cy="12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5008680"/>
            <a:ext cx="2895840" cy="12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www.PresentationPro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5008680"/>
            <a:ext cx="1905120" cy="12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9138C-3729-4562-9B56-B80FA2EC3085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5"/>
          <p:cNvSpPr/>
          <p:nvPr/>
        </p:nvSpPr>
        <p:spPr>
          <a:xfrm>
            <a:off x="304920" y="36180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5d"/>
                </a:solidFill>
                <a:latin typeface="Arial"/>
              </a:rPr>
              <a:t>ПОЛИЩУК Александр Иванович –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5d"/>
                </a:solidFill>
                <a:latin typeface="Arial"/>
              </a:rPr>
              <a:t>начальник государственной жилищной инспекции Новосибирской област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Прямоугольник 6"/>
          <p:cNvSpPr/>
          <p:nvPr/>
        </p:nvSpPr>
        <p:spPr>
          <a:xfrm>
            <a:off x="228600" y="1809720"/>
            <a:ext cx="5791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5d"/>
                </a:solidFill>
                <a:latin typeface="Arial"/>
              </a:rPr>
              <a:t>«Реализация контрольно-надзорных полномочий на региональном уровне</a:t>
            </a:r>
            <a:br>
              <a:rPr sz="2000"/>
            </a:br>
            <a:r>
              <a:rPr b="1" lang="ru-RU" sz="2000" spc="-1" strike="noStrike">
                <a:solidFill>
                  <a:srgbClr val="16165d"/>
                </a:solidFill>
                <a:latin typeface="Arial"/>
              </a:rPr>
              <a:t>по отдельным видам контроля:</a:t>
            </a:r>
            <a:br>
              <a:rPr sz="2000"/>
            </a:br>
            <a:r>
              <a:rPr b="1" lang="ru-RU" sz="2000" spc="-1" strike="noStrike">
                <a:solidFill>
                  <a:srgbClr val="16165d"/>
                </a:solidFill>
                <a:latin typeface="Arial"/>
              </a:rPr>
              <a:t>практика, проблемы, задачи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5"/>
          <p:cNvSpPr/>
          <p:nvPr/>
        </p:nvSpPr>
        <p:spPr>
          <a:xfrm>
            <a:off x="304920" y="36180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5d"/>
                </a:solidFill>
                <a:latin typeface="Arial"/>
              </a:rPr>
              <a:t>ПОЛИЩУК Александр Иванович –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5d"/>
                </a:solidFill>
                <a:latin typeface="Arial"/>
              </a:rPr>
              <a:t>начальник государственной жилищной инспекции Новосибирской област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Прямоугольник 6"/>
          <p:cNvSpPr/>
          <p:nvPr/>
        </p:nvSpPr>
        <p:spPr>
          <a:xfrm>
            <a:off x="228600" y="1809720"/>
            <a:ext cx="5791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5d"/>
                </a:solidFill>
                <a:latin typeface="Arial"/>
              </a:rPr>
              <a:t>«Реализация контрольно-надзорных полномочий на региональном уровне</a:t>
            </a:r>
            <a:br>
              <a:rPr sz="2000"/>
            </a:br>
            <a:r>
              <a:rPr b="1" lang="ru-RU" sz="2000" spc="-1" strike="noStrike">
                <a:solidFill>
                  <a:srgbClr val="16165d"/>
                </a:solidFill>
                <a:latin typeface="Arial"/>
              </a:rPr>
              <a:t>по отдельным видам контроля:</a:t>
            </a:r>
            <a:br>
              <a:rPr sz="2000"/>
            </a:br>
            <a:r>
              <a:rPr b="1" lang="ru-RU" sz="2000" spc="-1" strike="noStrike">
                <a:solidFill>
                  <a:srgbClr val="16165d"/>
                </a:solidFill>
                <a:latin typeface="Arial"/>
              </a:rPr>
              <a:t>практика, проблемы, задачи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5"/>
          <p:cNvSpPr/>
          <p:nvPr/>
        </p:nvSpPr>
        <p:spPr>
          <a:xfrm>
            <a:off x="1066680" y="743040"/>
            <a:ext cx="762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165d"/>
                </a:solidFill>
                <a:latin typeface="Arial"/>
              </a:rPr>
              <a:t>Программа признана победителем конкурса </a:t>
            </a:r>
            <a:r>
              <a:rPr b="1" lang="en-US" sz="1600" spc="-1" strike="noStrike">
                <a:solidFill>
                  <a:srgbClr val="16165d"/>
                </a:solidFill>
                <a:latin typeface="Arial"/>
              </a:rPr>
              <a:t>IT</a:t>
            </a:r>
            <a:r>
              <a:rPr b="1" lang="ru-RU" sz="1600" spc="-1" strike="noStrike">
                <a:solidFill>
                  <a:srgbClr val="16165d"/>
                </a:solidFill>
                <a:latin typeface="Arial"/>
              </a:rPr>
              <a:t>-проектов «Проект года» в номинации «Лучшее отраслевое решение в сфере </a:t>
            </a:r>
            <a:br>
              <a:rPr sz="1600"/>
            </a:br>
            <a:r>
              <a:rPr b="1" lang="ru-RU" sz="1600" spc="-1" strike="noStrike">
                <a:solidFill>
                  <a:srgbClr val="16165d"/>
                </a:solidFill>
                <a:latin typeface="Arial"/>
              </a:rPr>
              <a:t>государственного управления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Группа 2"/>
          <p:cNvGrpSpPr/>
          <p:nvPr/>
        </p:nvGrpSpPr>
        <p:grpSpPr>
          <a:xfrm>
            <a:off x="6218280" y="133200"/>
            <a:ext cx="2690640" cy="368280"/>
            <a:chOff x="6218280" y="133200"/>
            <a:chExt cx="2690640" cy="368280"/>
          </a:xfrm>
        </p:grpSpPr>
        <p:pic>
          <p:nvPicPr>
            <p:cNvPr id="136" name="Picture 4" descr="\\fs-021\обмен\ПРЕСС-СЛУЖБА\Мероприятия\Май 2019\28.05.2019\Презентация\C__Data_Users_DefApps_AppData_INTERNETEXPLORER_Temp_Saved-Images_novosibirsk_city_coa.gif"/>
            <p:cNvPicPr/>
            <p:nvPr/>
          </p:nvPicPr>
          <p:blipFill>
            <a:blip r:embed="rId1"/>
            <a:stretch/>
          </p:blipFill>
          <p:spPr>
            <a:xfrm>
              <a:off x="6218280" y="161280"/>
              <a:ext cx="304560" cy="31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Box 10"/>
            <p:cNvSpPr/>
            <p:nvPr/>
          </p:nvSpPr>
          <p:spPr>
            <a:xfrm>
              <a:off x="6470640" y="13320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16165d"/>
                  </a:solidFill>
                  <a:latin typeface="Arial"/>
                </a:rPr>
                <a:t>Государственная жилищная инспекция Новосибирской области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8" name="Picture 3" descr="\\fs-021\обмен\ПРЕСС-СЛУЖБА\Мероприятия\Август 2019\Фото\2.jpg"/>
          <p:cNvPicPr/>
          <p:nvPr/>
        </p:nvPicPr>
        <p:blipFill>
          <a:blip r:embed="rId2"/>
          <a:stretch/>
        </p:blipFill>
        <p:spPr>
          <a:xfrm>
            <a:off x="2781360" y="1758960"/>
            <a:ext cx="4191120" cy="2830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5"/>
          <p:cNvSpPr/>
          <p:nvPr/>
        </p:nvSpPr>
        <p:spPr>
          <a:xfrm>
            <a:off x="1143000" y="806400"/>
            <a:ext cx="7543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165d"/>
                </a:solidFill>
                <a:latin typeface="Arial"/>
              </a:rPr>
              <a:t>Проведена модернизация «горячей линии», в результате которой существует  возможность электронного ведения учета звонков граждан, информирование управляющих организаций </a:t>
            </a:r>
            <a:br>
              <a:rPr sz="1600"/>
            </a:br>
            <a:r>
              <a:rPr b="1" lang="ru-RU" sz="1600" spc="-1" strike="noStrike">
                <a:solidFill>
                  <a:srgbClr val="16165d"/>
                </a:solidFill>
                <a:latin typeface="Arial"/>
              </a:rPr>
              <a:t>о возникших проблема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Группа 2"/>
          <p:cNvGrpSpPr/>
          <p:nvPr/>
        </p:nvGrpSpPr>
        <p:grpSpPr>
          <a:xfrm>
            <a:off x="6218280" y="133200"/>
            <a:ext cx="2690640" cy="368280"/>
            <a:chOff x="6218280" y="133200"/>
            <a:chExt cx="2690640" cy="368280"/>
          </a:xfrm>
        </p:grpSpPr>
        <p:pic>
          <p:nvPicPr>
            <p:cNvPr id="141" name="Picture 4" descr="\\fs-021\обмен\ПРЕСС-СЛУЖБА\Мероприятия\Май 2019\28.05.2019\Презентация\C__Data_Users_DefApps_AppData_INTERNETEXPLORER_Temp_Saved-Images_novosibirsk_city_coa.gif"/>
            <p:cNvPicPr/>
            <p:nvPr/>
          </p:nvPicPr>
          <p:blipFill>
            <a:blip r:embed="rId1"/>
            <a:stretch/>
          </p:blipFill>
          <p:spPr>
            <a:xfrm>
              <a:off x="6218280" y="161280"/>
              <a:ext cx="304560" cy="31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Box 10"/>
            <p:cNvSpPr/>
            <p:nvPr/>
          </p:nvSpPr>
          <p:spPr>
            <a:xfrm>
              <a:off x="6470640" y="13320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16165d"/>
                  </a:solidFill>
                  <a:latin typeface="Arial"/>
                </a:rPr>
                <a:t>Государственная жилищная инспекция Новосибирской области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3" name="Picture 3" descr="\\fs-021\обмен\ПРЕСС-СЛУЖБА\Мероприятия\Август 2019\Фото\1.jpg"/>
          <p:cNvPicPr/>
          <p:nvPr/>
        </p:nvPicPr>
        <p:blipFill>
          <a:blip r:embed="rId2"/>
          <a:stretch/>
        </p:blipFill>
        <p:spPr>
          <a:xfrm>
            <a:off x="2739960" y="2114640"/>
            <a:ext cx="4348080" cy="2192400"/>
          </a:xfrm>
          <a:prstGeom prst="rect">
            <a:avLst/>
          </a:prstGeom>
          <a:ln w="12600">
            <a:solidFill>
              <a:srgbClr val="22228b"/>
            </a:solidFill>
            <a:miter/>
          </a:ln>
        </p:spPr>
      </p:pic>
    </p:spTree>
  </p:cSld>
  <p:transition>
    <p:fad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Группа 2"/>
          <p:cNvGrpSpPr/>
          <p:nvPr/>
        </p:nvGrpSpPr>
        <p:grpSpPr>
          <a:xfrm>
            <a:off x="6218280" y="133200"/>
            <a:ext cx="2690640" cy="368280"/>
            <a:chOff x="6218280" y="133200"/>
            <a:chExt cx="2690640" cy="368280"/>
          </a:xfrm>
        </p:grpSpPr>
        <p:pic>
          <p:nvPicPr>
            <p:cNvPr id="145" name="Picture 4" descr="\\fs-021\обмен\ПРЕСС-СЛУЖБА\Мероприятия\Май 2019\28.05.2019\Презентация\C__Data_Users_DefApps_AppData_INTERNETEXPLORER_Temp_Saved-Images_novosibirsk_city_coa.gif"/>
            <p:cNvPicPr/>
            <p:nvPr/>
          </p:nvPicPr>
          <p:blipFill>
            <a:blip r:embed="rId1"/>
            <a:stretch/>
          </p:blipFill>
          <p:spPr>
            <a:xfrm>
              <a:off x="6218280" y="161280"/>
              <a:ext cx="304560" cy="31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Box 10"/>
            <p:cNvSpPr/>
            <p:nvPr/>
          </p:nvSpPr>
          <p:spPr>
            <a:xfrm>
              <a:off x="6470640" y="13320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16165d"/>
                  </a:solidFill>
                  <a:latin typeface="Arial"/>
                </a:rPr>
                <a:t>Государственная жилищная инспекция Новосибирской области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Прямоугольник 7"/>
          <p:cNvSpPr/>
          <p:nvPr/>
        </p:nvSpPr>
        <p:spPr>
          <a:xfrm>
            <a:off x="1481040" y="83016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165d"/>
                </a:solidFill>
                <a:latin typeface="Arial"/>
              </a:rPr>
              <a:t>Результаты проводимой инспекцией рабо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Группа 31"/>
          <p:cNvGrpSpPr/>
          <p:nvPr/>
        </p:nvGrpSpPr>
        <p:grpSpPr>
          <a:xfrm>
            <a:off x="1036800" y="1492200"/>
            <a:ext cx="7802280" cy="2743200"/>
            <a:chOff x="1036800" y="1492200"/>
            <a:chExt cx="7802280" cy="2743200"/>
          </a:xfrm>
        </p:grpSpPr>
        <p:grpSp>
          <p:nvGrpSpPr>
            <p:cNvPr id="149" name="Группа 2"/>
            <p:cNvGrpSpPr/>
            <p:nvPr/>
          </p:nvGrpSpPr>
          <p:grpSpPr>
            <a:xfrm>
              <a:off x="1036800" y="1504080"/>
              <a:ext cx="3093840" cy="2692440"/>
              <a:chOff x="1036800" y="1504080"/>
              <a:chExt cx="3093840" cy="2692440"/>
            </a:xfrm>
          </p:grpSpPr>
          <p:pic>
            <p:nvPicPr>
              <p:cNvPr id="150" name="Диаграмма 1" descr=""/>
              <p:cNvPicPr/>
              <p:nvPr/>
            </p:nvPicPr>
            <p:blipFill>
              <a:blip r:embed="rId2"/>
              <a:stretch/>
            </p:blipFill>
            <p:spPr>
              <a:xfrm>
                <a:off x="1036800" y="1504080"/>
                <a:ext cx="3073680" cy="2692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" name="Прямоугольник 6"/>
              <p:cNvSpPr/>
              <p:nvPr/>
            </p:nvSpPr>
            <p:spPr>
              <a:xfrm>
                <a:off x="1431720" y="1526400"/>
                <a:ext cx="2698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16165d"/>
                    </a:solidFill>
                    <a:latin typeface="Arial"/>
                  </a:rPr>
                  <a:t>Количество выданных предупреждений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Группа 30"/>
            <p:cNvGrpSpPr/>
            <p:nvPr/>
          </p:nvGrpSpPr>
          <p:grpSpPr>
            <a:xfrm>
              <a:off x="3581280" y="1492200"/>
              <a:ext cx="5257800" cy="2743200"/>
              <a:chOff x="3581280" y="1492200"/>
              <a:chExt cx="5257800" cy="2743200"/>
            </a:xfrm>
          </p:grpSpPr>
          <p:grpSp>
            <p:nvGrpSpPr>
              <p:cNvPr id="153" name="Группа 29"/>
              <p:cNvGrpSpPr/>
              <p:nvPr/>
            </p:nvGrpSpPr>
            <p:grpSpPr>
              <a:xfrm>
                <a:off x="3581280" y="1492200"/>
                <a:ext cx="5257800" cy="2743200"/>
                <a:chOff x="3581280" y="1492200"/>
                <a:chExt cx="5257800" cy="2743200"/>
              </a:xfrm>
            </p:grpSpPr>
            <p:grpSp>
              <p:nvGrpSpPr>
                <p:cNvPr id="154" name="Группа 28"/>
                <p:cNvGrpSpPr/>
                <p:nvPr/>
              </p:nvGrpSpPr>
              <p:grpSpPr>
                <a:xfrm>
                  <a:off x="3581280" y="1492200"/>
                  <a:ext cx="5257800" cy="2743200"/>
                  <a:chOff x="3581280" y="1492200"/>
                  <a:chExt cx="5257800" cy="2743200"/>
                </a:xfrm>
              </p:grpSpPr>
              <p:grpSp>
                <p:nvGrpSpPr>
                  <p:cNvPr id="155" name="Группа 26"/>
                  <p:cNvGrpSpPr/>
                  <p:nvPr/>
                </p:nvGrpSpPr>
                <p:grpSpPr>
                  <a:xfrm>
                    <a:off x="3581280" y="1492200"/>
                    <a:ext cx="5257800" cy="2743200"/>
                    <a:chOff x="3581280" y="1492200"/>
                    <a:chExt cx="5257800" cy="2743200"/>
                  </a:xfrm>
                </p:grpSpPr>
                <p:pic>
                  <p:nvPicPr>
                    <p:cNvPr id="156" name="Диаграмма 3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581280" y="1492200"/>
                      <a:ext cx="5257800" cy="274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57" name="TextBox 20"/>
                    <p:cNvSpPr/>
                    <p:nvPr/>
                  </p:nvSpPr>
                  <p:spPr>
                    <a:xfrm>
                      <a:off x="6289560" y="1850400"/>
                      <a:ext cx="7552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441ec"/>
                          </a:solidFill>
                          <a:latin typeface="Arial"/>
                        </a:rPr>
                        <a:t>186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8" name="TextBox 35"/>
                  <p:cNvSpPr/>
                  <p:nvPr/>
                </p:nvSpPr>
                <p:spPr>
                  <a:xfrm>
                    <a:off x="6395760" y="3486240"/>
                    <a:ext cx="5554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400" spc="-1" strike="noStrike">
                        <a:solidFill>
                          <a:srgbClr val="0441ec"/>
                        </a:solidFill>
                        <a:latin typeface="Arial"/>
                      </a:rPr>
                      <a:t>767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9" name="TextBox 27"/>
                <p:cNvSpPr/>
                <p:nvPr/>
              </p:nvSpPr>
              <p:spPr>
                <a:xfrm>
                  <a:off x="4410000" y="3394080"/>
                  <a:ext cx="533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0441ec"/>
                      </a:solidFill>
                      <a:latin typeface="Arial"/>
                    </a:rPr>
                    <a:t>97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0" name="TextBox 4"/>
              <p:cNvSpPr/>
              <p:nvPr/>
            </p:nvSpPr>
            <p:spPr>
              <a:xfrm>
                <a:off x="4263840" y="22669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441ec"/>
                    </a:solidFill>
                    <a:latin typeface="Arial"/>
                  </a:rPr>
                  <a:t>1536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Группа 2"/>
          <p:cNvGrpSpPr/>
          <p:nvPr/>
        </p:nvGrpSpPr>
        <p:grpSpPr>
          <a:xfrm>
            <a:off x="6218280" y="133200"/>
            <a:ext cx="2690640" cy="368280"/>
            <a:chOff x="6218280" y="133200"/>
            <a:chExt cx="2690640" cy="368280"/>
          </a:xfrm>
        </p:grpSpPr>
        <p:pic>
          <p:nvPicPr>
            <p:cNvPr id="162" name="Picture 4" descr="\\fs-021\обмен\ПРЕСС-СЛУЖБА\Мероприятия\Май 2019\28.05.2019\Презентация\C__Data_Users_DefApps_AppData_INTERNETEXPLORER_Temp_Saved-Images_novosibirsk_city_coa.gif"/>
            <p:cNvPicPr/>
            <p:nvPr/>
          </p:nvPicPr>
          <p:blipFill>
            <a:blip r:embed="rId1"/>
            <a:stretch/>
          </p:blipFill>
          <p:spPr>
            <a:xfrm>
              <a:off x="6218280" y="161280"/>
              <a:ext cx="304560" cy="31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TextBox 10"/>
            <p:cNvSpPr/>
            <p:nvPr/>
          </p:nvSpPr>
          <p:spPr>
            <a:xfrm>
              <a:off x="6470640" y="13320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16165d"/>
                  </a:solidFill>
                  <a:latin typeface="Arial"/>
                </a:rPr>
                <a:t>Государственная жилищная инспекция Новосибирской области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Прямоугольник 22"/>
          <p:cNvSpPr/>
          <p:nvPr/>
        </p:nvSpPr>
        <p:spPr>
          <a:xfrm>
            <a:off x="914400" y="590400"/>
            <a:ext cx="8001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6165d"/>
                </a:solidFill>
                <a:latin typeface="Arial"/>
              </a:rPr>
              <a:t>Проблемы осуществления контрольно-надзорных полномочий в части заключения договоров на техническое обслуживание ВКГ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Группа 1"/>
          <p:cNvGrpSpPr/>
          <p:nvPr/>
        </p:nvGrpSpPr>
        <p:grpSpPr>
          <a:xfrm>
            <a:off x="1447920" y="1276200"/>
            <a:ext cx="6966000" cy="3498840"/>
            <a:chOff x="1447920" y="1276200"/>
            <a:chExt cx="6966000" cy="3498840"/>
          </a:xfrm>
        </p:grpSpPr>
        <p:sp>
          <p:nvSpPr>
            <p:cNvPr id="166" name="Стрелка вниз 23"/>
            <p:cNvSpPr/>
            <p:nvPr/>
          </p:nvSpPr>
          <p:spPr>
            <a:xfrm rot="10800000">
              <a:off x="4494240" y="2161800"/>
              <a:ext cx="242640" cy="1293840"/>
            </a:xfrm>
            <a:prstGeom prst="downArrow">
              <a:avLst>
                <a:gd name="adj1" fmla="val 50000"/>
                <a:gd name="adj2" fmla="val 50040"/>
              </a:avLst>
            </a:prstGeom>
            <a:solidFill>
              <a:srgbClr val="e6e6e6"/>
            </a:solidFill>
            <a:ln w="25560">
              <a:solidFill>
                <a:srgbClr val="2d2d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Прямоугольник 18"/>
            <p:cNvSpPr/>
            <p:nvPr/>
          </p:nvSpPr>
          <p:spPr>
            <a:xfrm rot="16200000">
              <a:off x="4475160" y="2603160"/>
              <a:ext cx="1177920" cy="527040"/>
            </a:xfrm>
            <a:prstGeom prst="rect">
              <a:avLst/>
            </a:prstGeom>
            <a:solidFill>
              <a:srgbClr val="009973"/>
            </a:solidFill>
            <a:ln w="25560">
              <a:solidFill>
                <a:srgbClr val="0000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f2f2f2"/>
                  </a:solidFill>
                  <a:latin typeface="Arial"/>
                  <a:ea typeface="Times New Roman"/>
                </a:rPr>
                <a:t>Договор  на обслуживание ВКГО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Скругленный прямоугольник 21"/>
            <p:cNvSpPr/>
            <p:nvPr/>
          </p:nvSpPr>
          <p:spPr>
            <a:xfrm>
              <a:off x="7270920" y="1658520"/>
              <a:ext cx="1143000" cy="480960"/>
            </a:xfrm>
            <a:prstGeom prst="roundRect">
              <a:avLst>
                <a:gd name="adj" fmla="val 16667"/>
              </a:avLst>
            </a:prstGeom>
            <a:solidFill>
              <a:srgbClr val="000064"/>
            </a:solidFill>
            <a:ln w="25560">
              <a:solidFill>
                <a:srgbClr val="2d2d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42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f2f2f2"/>
                  </a:solidFill>
                  <a:latin typeface="Arial"/>
                </a:rPr>
                <a:t>Инспекция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9" name="Picture 15" descr="\\fs-021\обмен\ПРЕСС-СЛУЖБА\Мероприятия\Август 2019\Фото\фото.png"/>
            <p:cNvPicPr/>
            <p:nvPr/>
          </p:nvPicPr>
          <p:blipFill>
            <a:blip r:embed="rId2"/>
            <a:stretch/>
          </p:blipFill>
          <p:spPr>
            <a:xfrm>
              <a:off x="3870000" y="3463560"/>
              <a:ext cx="1490400" cy="131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Прямоугольник 16"/>
            <p:cNvSpPr/>
            <p:nvPr/>
          </p:nvSpPr>
          <p:spPr>
            <a:xfrm>
              <a:off x="5529600" y="2114280"/>
              <a:ext cx="1724040" cy="455400"/>
            </a:xfrm>
            <a:prstGeom prst="rect">
              <a:avLst/>
            </a:prstGeom>
            <a:solidFill>
              <a:srgbClr val="c00000"/>
            </a:solidFill>
            <a:ln w="25560">
              <a:solidFill>
                <a:srgbClr val="0000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f2f2f2"/>
                  </a:solidFill>
                  <a:latin typeface="Arial"/>
                  <a:ea typeface="Times New Roman"/>
                </a:rPr>
                <a:t>Сведения о заключении договоров </a:t>
              </a:r>
              <a:br>
                <a:rPr sz="900"/>
              </a:br>
              <a:r>
                <a:rPr b="0" lang="ru-RU" sz="900" spc="-1" strike="noStrike">
                  <a:solidFill>
                    <a:srgbClr val="f2f2f2"/>
                  </a:solidFill>
                  <a:latin typeface="Arial"/>
                  <a:ea typeface="Times New Roman"/>
                </a:rPr>
                <a:t>на обслуживание ВКГО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Скругленный прямоугольник 19"/>
            <p:cNvSpPr/>
            <p:nvPr/>
          </p:nvSpPr>
          <p:spPr>
            <a:xfrm>
              <a:off x="3700440" y="1658520"/>
              <a:ext cx="1828800" cy="480960"/>
            </a:xfrm>
            <a:prstGeom prst="roundRect">
              <a:avLst>
                <a:gd name="adj" fmla="val 16667"/>
              </a:avLst>
            </a:prstGeom>
            <a:solidFill>
              <a:srgbClr val="000064"/>
            </a:solidFill>
            <a:ln w="25560">
              <a:solidFill>
                <a:srgbClr val="2d2d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f2f2f2"/>
                  </a:solidFill>
                  <a:latin typeface="Arial"/>
                </a:rPr>
                <a:t>Специализированная организация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Стрелка вниз 20"/>
            <p:cNvSpPr/>
            <p:nvPr/>
          </p:nvSpPr>
          <p:spPr>
            <a:xfrm rot="16200000">
              <a:off x="6251040" y="1033920"/>
              <a:ext cx="279360" cy="1722240"/>
            </a:xfrm>
            <a:prstGeom prst="downArrow">
              <a:avLst>
                <a:gd name="adj1" fmla="val 50000"/>
                <a:gd name="adj2" fmla="val 50005"/>
              </a:avLst>
            </a:prstGeom>
            <a:solidFill>
              <a:srgbClr val="e6e6e6"/>
            </a:solidFill>
            <a:ln w="25560">
              <a:solidFill>
                <a:srgbClr val="2d2d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Прямоугольник 25"/>
            <p:cNvSpPr/>
            <p:nvPr/>
          </p:nvSpPr>
          <p:spPr>
            <a:xfrm>
              <a:off x="5507280" y="1276200"/>
              <a:ext cx="1763640" cy="382320"/>
            </a:xfrm>
            <a:prstGeom prst="rect">
              <a:avLst/>
            </a:prstGeom>
            <a:solidFill>
              <a:srgbClr val="009973"/>
            </a:solidFill>
            <a:ln w="25560">
              <a:solidFill>
                <a:srgbClr val="0000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f2f2f2"/>
                  </a:solidFill>
                  <a:latin typeface="Arial"/>
                  <a:ea typeface="Times New Roman"/>
                </a:rPr>
                <a:t>Уведомление о начале деятельности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Скругленный прямоугольник 17"/>
            <p:cNvSpPr/>
            <p:nvPr/>
          </p:nvSpPr>
          <p:spPr>
            <a:xfrm>
              <a:off x="1447920" y="1650600"/>
              <a:ext cx="1218960" cy="488880"/>
            </a:xfrm>
            <a:prstGeom prst="roundRect">
              <a:avLst>
                <a:gd name="adj" fmla="val 16667"/>
              </a:avLst>
            </a:prstGeom>
            <a:solidFill>
              <a:srgbClr val="000064"/>
            </a:solidFill>
            <a:ln w="25560">
              <a:solidFill>
                <a:srgbClr val="2d2d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f2f2f2"/>
                  </a:solidFill>
                  <a:latin typeface="Arial"/>
                </a:rPr>
                <a:t>Управляющая организация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Прямоугольник 26"/>
            <p:cNvSpPr/>
            <p:nvPr/>
          </p:nvSpPr>
          <p:spPr>
            <a:xfrm>
              <a:off x="2666880" y="2128680"/>
              <a:ext cx="1033200" cy="533160"/>
            </a:xfrm>
            <a:prstGeom prst="rect">
              <a:avLst/>
            </a:prstGeom>
            <a:solidFill>
              <a:srgbClr val="009973"/>
            </a:solidFill>
            <a:ln w="25560">
              <a:solidFill>
                <a:srgbClr val="0000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f2f2f2"/>
                  </a:solidFill>
                  <a:latin typeface="Arial"/>
                  <a:ea typeface="Times New Roman"/>
                </a:rPr>
                <a:t>Договор  на обслуживание ВДГО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Стрелка вниз 27"/>
            <p:cNvSpPr/>
            <p:nvPr/>
          </p:nvSpPr>
          <p:spPr>
            <a:xfrm rot="16200000">
              <a:off x="3053160" y="1391040"/>
              <a:ext cx="279360" cy="1014120"/>
            </a:xfrm>
            <a:prstGeom prst="downArrow">
              <a:avLst>
                <a:gd name="adj1" fmla="val 50000"/>
                <a:gd name="adj2" fmla="val 49999"/>
              </a:avLst>
            </a:prstGeom>
            <a:solidFill>
              <a:srgbClr val="e6e6e6"/>
            </a:solidFill>
            <a:ln w="25560">
              <a:solidFill>
                <a:srgbClr val="2d2d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7" name="Picture 16" descr="\\fs-021\обмен\ПРЕСС-СЛУЖБА\Мероприятия\Август 2019\Фото\вопрос.jpg"/>
            <p:cNvPicPr/>
            <p:nvPr/>
          </p:nvPicPr>
          <p:blipFill>
            <a:blip r:embed="rId3"/>
            <a:stretch/>
          </p:blipFill>
          <p:spPr>
            <a:xfrm rot="1006800">
              <a:off x="7279560" y="2421720"/>
              <a:ext cx="366480" cy="332280"/>
            </a:xfrm>
            <a:prstGeom prst="rect">
              <a:avLst/>
            </a:prstGeom>
            <a:ln w="12600">
              <a:solidFill>
                <a:srgbClr val="000064"/>
              </a:solidFill>
              <a:miter/>
            </a:ln>
          </p:spPr>
        </p:pic>
      </p:grpSp>
    </p:spTree>
  </p:cSld>
  <p:transition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ик 5"/>
          <p:cNvSpPr/>
          <p:nvPr/>
        </p:nvSpPr>
        <p:spPr>
          <a:xfrm>
            <a:off x="1600200" y="743040"/>
            <a:ext cx="685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165d"/>
                </a:solidFill>
                <a:latin typeface="Arial"/>
              </a:rPr>
              <a:t>Количество специализированных организаций по техническому обслуживанию ВДГО и ВКГ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Группа 2"/>
          <p:cNvGrpSpPr/>
          <p:nvPr/>
        </p:nvGrpSpPr>
        <p:grpSpPr>
          <a:xfrm>
            <a:off x="6218280" y="133200"/>
            <a:ext cx="2690640" cy="368280"/>
            <a:chOff x="6218280" y="133200"/>
            <a:chExt cx="2690640" cy="368280"/>
          </a:xfrm>
        </p:grpSpPr>
        <p:pic>
          <p:nvPicPr>
            <p:cNvPr id="180" name="Picture 4" descr="\\fs-021\обмен\ПРЕСС-СЛУЖБА\Мероприятия\Май 2019\28.05.2019\Презентация\C__Data_Users_DefApps_AppData_INTERNETEXPLORER_Temp_Saved-Images_novosibirsk_city_coa.gif"/>
            <p:cNvPicPr/>
            <p:nvPr/>
          </p:nvPicPr>
          <p:blipFill>
            <a:blip r:embed="rId1"/>
            <a:stretch/>
          </p:blipFill>
          <p:spPr>
            <a:xfrm>
              <a:off x="6218280" y="161280"/>
              <a:ext cx="304560" cy="31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Box 10"/>
            <p:cNvSpPr/>
            <p:nvPr/>
          </p:nvSpPr>
          <p:spPr>
            <a:xfrm>
              <a:off x="6470640" y="13320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16165d"/>
                  </a:solidFill>
                  <a:latin typeface="Arial"/>
                </a:rPr>
                <a:t>Государственная жилищная инспекция Новосибирской области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2" name=""/>
          <p:cNvGraphicFramePr/>
          <p:nvPr/>
        </p:nvGraphicFramePr>
        <p:xfrm>
          <a:off x="1569960" y="1657440"/>
          <a:ext cx="7277040" cy="2651040"/>
        </p:xfrm>
        <a:graphic>
          <a:graphicData uri="http://schemas.openxmlformats.org/drawingml/2006/table">
            <a:tbl>
              <a:tblPr/>
              <a:tblGrid>
                <a:gridCol w="392040"/>
                <a:gridCol w="4179960"/>
                <a:gridCol w="2705040"/>
              </a:tblGrid>
              <a:tr h="525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200" spc="-1" strike="noStrike">
                          <a:solidFill>
                            <a:srgbClr val="f2f2f2"/>
                          </a:solidFill>
                          <a:latin typeface="Arial"/>
                        </a:rPr>
                        <a:t>№</a:t>
                      </a:r>
                      <a:r>
                        <a:rPr b="0" lang="ru-RU" sz="1200" spc="-1" strike="noStrike">
                          <a:solidFill>
                            <a:srgbClr val="f2f2f2"/>
                          </a:solidFill>
                          <a:latin typeface="Arial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13680">
                      <a:solidFill>
                        <a:srgbClr val="4432b0"/>
                      </a:solidFill>
                    </a:lnL>
                    <a:lnR w="13680">
                      <a:solidFill>
                        <a:srgbClr val="d9d9d9"/>
                      </a:solidFill>
                    </a:lnR>
                    <a:lnT w="13680">
                      <a:solidFill>
                        <a:srgbClr val="4432b0"/>
                      </a:solidFill>
                    </a:lnT>
                    <a:lnB w="13680">
                      <a:solidFill>
                        <a:srgbClr val="f2f2f2"/>
                      </a:solidFill>
                    </a:lnB>
                    <a:solidFill>
                      <a:srgbClr val="22228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200" spc="-1" strike="noStrike">
                          <a:solidFill>
                            <a:srgbClr val="f2f2f2"/>
                          </a:solidFill>
                          <a:latin typeface="Arial"/>
                        </a:rPr>
                        <a:t>Наименование реги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13680">
                      <a:solidFill>
                        <a:srgbClr val="d9d9d9"/>
                      </a:solidFill>
                    </a:lnL>
                    <a:lnR w="13680">
                      <a:solidFill>
                        <a:srgbClr val="d9d9d9"/>
                      </a:solidFill>
                    </a:lnR>
                    <a:lnT w="13680">
                      <a:solidFill>
                        <a:srgbClr val="4432b0"/>
                      </a:solidFill>
                    </a:lnT>
                    <a:lnB w="4320">
                      <a:solidFill>
                        <a:srgbClr val="2e2ecb"/>
                      </a:solidFill>
                    </a:lnB>
                    <a:solidFill>
                      <a:srgbClr val="22228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200" spc="-1" strike="noStrike">
                          <a:solidFill>
                            <a:srgbClr val="f2f2f2"/>
                          </a:solidFill>
                          <a:latin typeface="Arial"/>
                        </a:rPr>
                        <a:t>Количество специализированных организ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13680">
                      <a:solidFill>
                        <a:srgbClr val="d9d9d9"/>
                      </a:solidFill>
                    </a:lnL>
                    <a:lnR w="13680">
                      <a:solidFill>
                        <a:srgbClr val="d9d9d9"/>
                      </a:solidFill>
                    </a:lnR>
                    <a:lnT w="13680">
                      <a:solidFill>
                        <a:srgbClr val="4432b0"/>
                      </a:solidFill>
                    </a:lnT>
                    <a:lnB w="4320">
                      <a:solidFill>
                        <a:srgbClr val="2e2ecb"/>
                      </a:solidFill>
                    </a:lnB>
                    <a:solidFill>
                      <a:srgbClr val="22228b"/>
                    </a:solidFill>
                  </a:tcPr>
                </a:tc>
              </a:tr>
              <a:tr h="335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200" spc="-1" strike="noStrike">
                          <a:solidFill>
                            <a:srgbClr val="f2f2f2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13680">
                      <a:solidFill>
                        <a:srgbClr val="4432b0"/>
                      </a:solidFill>
                    </a:lnL>
                    <a:lnR w="13680">
                      <a:solidFill>
                        <a:srgbClr val="4432b0"/>
                      </a:solidFill>
                    </a:lnR>
                    <a:lnT w="13680">
                      <a:solidFill>
                        <a:srgbClr val="f2f2f2"/>
                      </a:solidFill>
                    </a:lnT>
                    <a:lnB w="13680">
                      <a:solidFill>
                        <a:srgbClr val="f2f2f2"/>
                      </a:solidFill>
                    </a:lnB>
                    <a:solidFill>
                      <a:srgbClr val="22228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200" spc="-1" strike="noStrike">
                          <a:solidFill>
                            <a:srgbClr val="000064"/>
                          </a:solidFill>
                          <a:latin typeface="Arial"/>
                          <a:ea typeface="Calibri"/>
                        </a:rPr>
                        <a:t>Новосибирская обла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13680">
                      <a:solidFill>
                        <a:srgbClr val="4432b0"/>
                      </a:solidFill>
                    </a:lnL>
                    <a:lnR w="13680">
                      <a:solidFill>
                        <a:srgbClr val="4432b0"/>
                      </a:solidFill>
                    </a:lnR>
                    <a:lnT w="4320">
                      <a:solidFill>
                        <a:srgbClr val="2e2ecb"/>
                      </a:solidFill>
                    </a:lnT>
                    <a:lnB w="13680">
                      <a:solidFill>
                        <a:srgbClr val="4432b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200" spc="-1" strike="noStrike">
                          <a:solidFill>
                            <a:srgbClr val="000064"/>
                          </a:solidFill>
                          <a:latin typeface="Arial"/>
                          <a:ea typeface="Calibri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13680">
                      <a:solidFill>
                        <a:srgbClr val="4432b0"/>
                      </a:solidFill>
                    </a:lnL>
                    <a:lnR w="13680">
                      <a:solidFill>
                        <a:srgbClr val="4432b0"/>
                      </a:solidFill>
                    </a:lnR>
                    <a:lnT w="4320">
                      <a:solidFill>
                        <a:srgbClr val="2e2ecb"/>
                      </a:solidFill>
                    </a:lnT>
                    <a:lnB w="13680">
                      <a:solidFill>
                        <a:srgbClr val="4432b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200" spc="-1" strike="noStrike">
                          <a:solidFill>
                            <a:srgbClr val="f2f2f2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13680">
                      <a:solidFill>
                        <a:srgbClr val="4432b0"/>
                      </a:solidFill>
                    </a:lnL>
                    <a:lnR w="13680">
                      <a:solidFill>
                        <a:srgbClr val="4432b0"/>
                      </a:solidFill>
                    </a:lnR>
                    <a:lnT w="13680">
                      <a:solidFill>
                        <a:srgbClr val="f2f2f2"/>
                      </a:solidFill>
                    </a:lnT>
                    <a:lnB w="13680">
                      <a:solidFill>
                        <a:srgbClr val="f2f2f2"/>
                      </a:solidFill>
                    </a:lnB>
                    <a:solidFill>
                      <a:srgbClr val="22228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200" spc="-1" strike="noStrike">
                          <a:solidFill>
                            <a:srgbClr val="000064"/>
                          </a:solidFill>
                          <a:latin typeface="Arial"/>
                          <a:ea typeface="Calibri"/>
                        </a:rPr>
                        <a:t>Кемеровская обла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13680">
                      <a:solidFill>
                        <a:srgbClr val="4432b0"/>
                      </a:solidFill>
                    </a:lnL>
                    <a:lnR w="13680">
                      <a:solidFill>
                        <a:srgbClr val="4432b0"/>
                      </a:solidFill>
                    </a:lnR>
                    <a:lnT w="13680">
                      <a:solidFill>
                        <a:srgbClr val="4432b0"/>
                      </a:solidFill>
                    </a:lnT>
                    <a:lnB w="13680">
                      <a:solidFill>
                        <a:srgbClr val="4432b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200" spc="-1" strike="noStrike">
                          <a:solidFill>
                            <a:srgbClr val="000064"/>
                          </a:solidFill>
                          <a:latin typeface="Arial"/>
                          <a:ea typeface="Calibri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13680">
                      <a:solidFill>
                        <a:srgbClr val="4432b0"/>
                      </a:solidFill>
                    </a:lnL>
                    <a:lnR w="13680">
                      <a:solidFill>
                        <a:srgbClr val="4432b0"/>
                      </a:solidFill>
                    </a:lnR>
                    <a:lnT w="13680">
                      <a:solidFill>
                        <a:srgbClr val="4432b0"/>
                      </a:solidFill>
                    </a:lnT>
                    <a:lnB w="13680">
                      <a:solidFill>
                        <a:srgbClr val="4432b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200" spc="-1" strike="noStrike">
                          <a:solidFill>
                            <a:srgbClr val="f2f2f2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13680">
                      <a:solidFill>
                        <a:srgbClr val="4432b0"/>
                      </a:solidFill>
                    </a:lnL>
                    <a:lnR w="13680">
                      <a:solidFill>
                        <a:srgbClr val="4432b0"/>
                      </a:solidFill>
                    </a:lnR>
                    <a:lnT w="13680">
                      <a:solidFill>
                        <a:srgbClr val="f2f2f2"/>
                      </a:solidFill>
                    </a:lnT>
                    <a:lnB w="13680">
                      <a:solidFill>
                        <a:srgbClr val="f2f2f2"/>
                      </a:solidFill>
                    </a:lnB>
                    <a:solidFill>
                      <a:srgbClr val="22228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200" spc="-1" strike="noStrike">
                          <a:solidFill>
                            <a:srgbClr val="000064"/>
                          </a:solidFill>
                          <a:latin typeface="Arial"/>
                          <a:ea typeface="Calibri"/>
                        </a:rPr>
                        <a:t>Алтайский кра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13680">
                      <a:solidFill>
                        <a:srgbClr val="4432b0"/>
                      </a:solidFill>
                    </a:lnL>
                    <a:lnR w="13680">
                      <a:solidFill>
                        <a:srgbClr val="4432b0"/>
                      </a:solidFill>
                    </a:lnR>
                    <a:lnT w="13680">
                      <a:solidFill>
                        <a:srgbClr val="4432b0"/>
                      </a:solidFill>
                    </a:lnT>
                    <a:lnB w="13680">
                      <a:solidFill>
                        <a:srgbClr val="4432b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200" spc="-1" strike="noStrike">
                          <a:solidFill>
                            <a:srgbClr val="000064"/>
                          </a:solidFill>
                          <a:latin typeface="Arial"/>
                          <a:ea typeface="Calibri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13680">
                      <a:solidFill>
                        <a:srgbClr val="4432b0"/>
                      </a:solidFill>
                    </a:lnL>
                    <a:lnR w="13680">
                      <a:solidFill>
                        <a:srgbClr val="4432b0"/>
                      </a:solidFill>
                    </a:lnR>
                    <a:lnT w="13680">
                      <a:solidFill>
                        <a:srgbClr val="4432b0"/>
                      </a:solidFill>
                    </a:lnT>
                    <a:lnB w="13680">
                      <a:solidFill>
                        <a:srgbClr val="4432b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200" spc="-1" strike="noStrike">
                          <a:solidFill>
                            <a:srgbClr val="f2f2f2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13680">
                      <a:solidFill>
                        <a:srgbClr val="4432b0"/>
                      </a:solidFill>
                    </a:lnL>
                    <a:lnR w="13680">
                      <a:solidFill>
                        <a:srgbClr val="4432b0"/>
                      </a:solidFill>
                    </a:lnR>
                    <a:lnT w="13680">
                      <a:solidFill>
                        <a:srgbClr val="f2f2f2"/>
                      </a:solidFill>
                    </a:lnT>
                    <a:lnB w="13680">
                      <a:solidFill>
                        <a:srgbClr val="f2f2f2"/>
                      </a:solidFill>
                    </a:lnB>
                    <a:solidFill>
                      <a:srgbClr val="22228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200" spc="-1" strike="noStrike">
                          <a:solidFill>
                            <a:srgbClr val="000064"/>
                          </a:solidFill>
                          <a:latin typeface="Arial"/>
                          <a:ea typeface="Calibri"/>
                        </a:rPr>
                        <a:t>Омская обла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13680">
                      <a:solidFill>
                        <a:srgbClr val="4432b0"/>
                      </a:solidFill>
                    </a:lnL>
                    <a:lnR w="13680">
                      <a:solidFill>
                        <a:srgbClr val="4432b0"/>
                      </a:solidFill>
                    </a:lnR>
                    <a:lnT w="13680">
                      <a:solidFill>
                        <a:srgbClr val="4432b0"/>
                      </a:solidFill>
                    </a:lnT>
                    <a:lnB w="13680">
                      <a:solidFill>
                        <a:srgbClr val="4432b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200" spc="-1" strike="noStrike">
                          <a:solidFill>
                            <a:srgbClr val="000064"/>
                          </a:solidFill>
                          <a:latin typeface="Arial"/>
                          <a:ea typeface="Calibri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13680">
                      <a:solidFill>
                        <a:srgbClr val="4432b0"/>
                      </a:solidFill>
                    </a:lnL>
                    <a:lnR w="13680">
                      <a:solidFill>
                        <a:srgbClr val="4432b0"/>
                      </a:solidFill>
                    </a:lnR>
                    <a:lnT w="13680">
                      <a:solidFill>
                        <a:srgbClr val="4432b0"/>
                      </a:solidFill>
                    </a:lnT>
                    <a:lnB w="13680">
                      <a:solidFill>
                        <a:srgbClr val="4432b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200" spc="-1" strike="noStrike">
                          <a:solidFill>
                            <a:srgbClr val="f2f2f2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13680">
                      <a:solidFill>
                        <a:srgbClr val="4432b0"/>
                      </a:solidFill>
                    </a:lnL>
                    <a:lnR w="13680">
                      <a:solidFill>
                        <a:srgbClr val="4432b0"/>
                      </a:solidFill>
                    </a:lnR>
                    <a:lnT w="13680">
                      <a:solidFill>
                        <a:srgbClr val="f2f2f2"/>
                      </a:solidFill>
                    </a:lnT>
                    <a:lnB w="13680">
                      <a:solidFill>
                        <a:srgbClr val="f2f2f2"/>
                      </a:solidFill>
                    </a:lnB>
                    <a:solidFill>
                      <a:srgbClr val="22228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200" spc="-1" strike="noStrike">
                          <a:solidFill>
                            <a:srgbClr val="000064"/>
                          </a:solidFill>
                          <a:latin typeface="Arial"/>
                          <a:ea typeface="Calibri"/>
                        </a:rPr>
                        <a:t>Томская обла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13680">
                      <a:solidFill>
                        <a:srgbClr val="4432b0"/>
                      </a:solidFill>
                    </a:lnL>
                    <a:lnR w="13680">
                      <a:solidFill>
                        <a:srgbClr val="4432b0"/>
                      </a:solidFill>
                    </a:lnR>
                    <a:lnT w="13680">
                      <a:solidFill>
                        <a:srgbClr val="4432b0"/>
                      </a:solidFill>
                    </a:lnT>
                    <a:lnB w="13680">
                      <a:solidFill>
                        <a:srgbClr val="4432b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200" spc="-1" strike="noStrike">
                          <a:solidFill>
                            <a:srgbClr val="000064"/>
                          </a:solidFill>
                          <a:latin typeface="Arial"/>
                          <a:ea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13680">
                      <a:solidFill>
                        <a:srgbClr val="4432b0"/>
                      </a:solidFill>
                    </a:lnL>
                    <a:lnR w="13680">
                      <a:solidFill>
                        <a:srgbClr val="4432b0"/>
                      </a:solidFill>
                    </a:lnR>
                    <a:lnT w="13680">
                      <a:solidFill>
                        <a:srgbClr val="4432b0"/>
                      </a:solidFill>
                    </a:lnT>
                    <a:lnB w="13680">
                      <a:solidFill>
                        <a:srgbClr val="4432b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200" spc="-1" strike="noStrike">
                          <a:solidFill>
                            <a:srgbClr val="f2f2f2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13680">
                      <a:solidFill>
                        <a:srgbClr val="4432b0"/>
                      </a:solidFill>
                    </a:lnL>
                    <a:lnR w="13680">
                      <a:solidFill>
                        <a:srgbClr val="4432b0"/>
                      </a:solidFill>
                    </a:lnR>
                    <a:lnT w="13680">
                      <a:solidFill>
                        <a:srgbClr val="f2f2f2"/>
                      </a:solidFill>
                    </a:lnT>
                    <a:lnB w="13680">
                      <a:solidFill>
                        <a:srgbClr val="f2f2f2"/>
                      </a:solidFill>
                    </a:lnB>
                    <a:solidFill>
                      <a:srgbClr val="22228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200" spc="-1" strike="noStrike">
                          <a:solidFill>
                            <a:srgbClr val="000064"/>
                          </a:solidFill>
                          <a:latin typeface="Arial"/>
                          <a:ea typeface="Calibri"/>
                        </a:rPr>
                        <a:t>Красноярский кра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13680">
                      <a:solidFill>
                        <a:srgbClr val="4432b0"/>
                      </a:solidFill>
                    </a:lnL>
                    <a:lnR w="13680">
                      <a:solidFill>
                        <a:srgbClr val="4432b0"/>
                      </a:solidFill>
                    </a:lnR>
                    <a:lnT w="13680">
                      <a:solidFill>
                        <a:srgbClr val="4432b0"/>
                      </a:solidFill>
                    </a:lnT>
                    <a:lnB w="13680">
                      <a:solidFill>
                        <a:srgbClr val="4432b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200" spc="-1" strike="noStrike">
                          <a:solidFill>
                            <a:srgbClr val="000064"/>
                          </a:solidFill>
                          <a:latin typeface="Arial"/>
                          <a:ea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13680">
                      <a:solidFill>
                        <a:srgbClr val="4432b0"/>
                      </a:solidFill>
                    </a:lnL>
                    <a:lnR w="13680">
                      <a:solidFill>
                        <a:srgbClr val="4432b0"/>
                      </a:solidFill>
                    </a:lnR>
                    <a:lnT w="13680">
                      <a:solidFill>
                        <a:srgbClr val="4432b0"/>
                      </a:solidFill>
                    </a:lnT>
                    <a:lnB w="13680">
                      <a:solidFill>
                        <a:srgbClr val="4432b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Группа 2"/>
          <p:cNvGrpSpPr/>
          <p:nvPr/>
        </p:nvGrpSpPr>
        <p:grpSpPr>
          <a:xfrm>
            <a:off x="6218280" y="133200"/>
            <a:ext cx="2690640" cy="368280"/>
            <a:chOff x="6218280" y="133200"/>
            <a:chExt cx="2690640" cy="368280"/>
          </a:xfrm>
        </p:grpSpPr>
        <p:pic>
          <p:nvPicPr>
            <p:cNvPr id="184" name="Picture 4" descr="\\fs-021\обмен\ПРЕСС-СЛУЖБА\Мероприятия\Май 2019\28.05.2019\Презентация\C__Data_Users_DefApps_AppData_INTERNETEXPLORER_Temp_Saved-Images_novosibirsk_city_coa.gif"/>
            <p:cNvPicPr/>
            <p:nvPr/>
          </p:nvPicPr>
          <p:blipFill>
            <a:blip r:embed="rId1"/>
            <a:stretch/>
          </p:blipFill>
          <p:spPr>
            <a:xfrm>
              <a:off x="6218280" y="161280"/>
              <a:ext cx="304560" cy="31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Box 10"/>
            <p:cNvSpPr/>
            <p:nvPr/>
          </p:nvSpPr>
          <p:spPr>
            <a:xfrm>
              <a:off x="6470640" y="13320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16165d"/>
                  </a:solidFill>
                  <a:latin typeface="Arial"/>
                </a:rPr>
                <a:t>Государственная жилищная инспекция Новосибирской области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Прямоугольник 22"/>
          <p:cNvSpPr/>
          <p:nvPr/>
        </p:nvSpPr>
        <p:spPr>
          <a:xfrm>
            <a:off x="990720" y="739800"/>
            <a:ext cx="8001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6165d"/>
                </a:solidFill>
                <a:latin typeface="Arial"/>
              </a:rPr>
              <a:t>Проблемы осуществления контрольно-надзорных полномочий в части учета протоколов общих собраний собственник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6" descr="\\fs-021\обмен\ПРЕСС-СЛУЖБА\Мероприятия\Август 2019\Фото\BUnkWOeIfaQ.jpg"/>
          <p:cNvPicPr/>
          <p:nvPr/>
        </p:nvPicPr>
        <p:blipFill>
          <a:blip r:embed="rId2"/>
          <a:stretch/>
        </p:blipFill>
        <p:spPr>
          <a:xfrm>
            <a:off x="1752480" y="1352520"/>
            <a:ext cx="3276720" cy="2460600"/>
          </a:xfrm>
          <a:prstGeom prst="rect">
            <a:avLst/>
          </a:prstGeom>
          <a:ln w="12600">
            <a:solidFill>
              <a:srgbClr val="000064"/>
            </a:solidFill>
            <a:miter/>
          </a:ln>
        </p:spPr>
      </p:pic>
      <p:pic>
        <p:nvPicPr>
          <p:cNvPr id="188" name="Picture 7" descr="\\fs-021\обмен\ПРЕСС-СЛУЖБА\Мероприятия\Август 2019\Фото\qM22xAt4PjA.jpg"/>
          <p:cNvPicPr/>
          <p:nvPr/>
        </p:nvPicPr>
        <p:blipFill>
          <a:blip r:embed="rId3"/>
          <a:stretch/>
        </p:blipFill>
        <p:spPr>
          <a:xfrm>
            <a:off x="5334120" y="1352520"/>
            <a:ext cx="3276360" cy="2460600"/>
          </a:xfrm>
          <a:prstGeom prst="rect">
            <a:avLst/>
          </a:prstGeom>
          <a:ln w="12600">
            <a:solidFill>
              <a:srgbClr val="000064"/>
            </a:solidFill>
            <a:miter/>
          </a:ln>
        </p:spPr>
      </p:pic>
      <p:sp>
        <p:nvSpPr>
          <p:cNvPr id="189" name="Прямоугольник 7"/>
          <p:cNvSpPr/>
          <p:nvPr/>
        </p:nvSpPr>
        <p:spPr>
          <a:xfrm>
            <a:off x="1676520" y="4095720"/>
            <a:ext cx="8001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6165d"/>
                </a:solidFill>
                <a:latin typeface="Arial"/>
              </a:rPr>
              <a:t>За первое полугодие 2018 года поступило 4662 протокол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6165d"/>
                </a:solidFill>
                <a:latin typeface="Arial"/>
              </a:rPr>
              <a:t>За первое полугодие 2019 года поступило 7879 протокол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Группа 2"/>
          <p:cNvGrpSpPr/>
          <p:nvPr/>
        </p:nvGrpSpPr>
        <p:grpSpPr>
          <a:xfrm>
            <a:off x="6218280" y="133200"/>
            <a:ext cx="2690640" cy="368280"/>
            <a:chOff x="6218280" y="133200"/>
            <a:chExt cx="2690640" cy="368280"/>
          </a:xfrm>
        </p:grpSpPr>
        <p:pic>
          <p:nvPicPr>
            <p:cNvPr id="191" name="Picture 4" descr="\\fs-021\обмен\ПРЕСС-СЛУЖБА\Мероприятия\Май 2019\28.05.2019\Презентация\C__Data_Users_DefApps_AppData_INTERNETEXPLORER_Temp_Saved-Images_novosibirsk_city_coa.gif"/>
            <p:cNvPicPr/>
            <p:nvPr/>
          </p:nvPicPr>
          <p:blipFill>
            <a:blip r:embed="rId1"/>
            <a:stretch/>
          </p:blipFill>
          <p:spPr>
            <a:xfrm>
              <a:off x="6218280" y="161280"/>
              <a:ext cx="304560" cy="31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Box 10"/>
            <p:cNvSpPr/>
            <p:nvPr/>
          </p:nvSpPr>
          <p:spPr>
            <a:xfrm>
              <a:off x="6470640" y="13320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16165d"/>
                  </a:solidFill>
                  <a:latin typeface="Arial"/>
                </a:rPr>
                <a:t>Государственная жилищная инспекция Новосибирской области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Прямоугольник 7"/>
          <p:cNvSpPr/>
          <p:nvPr/>
        </p:nvSpPr>
        <p:spPr>
          <a:xfrm>
            <a:off x="1447920" y="819000"/>
            <a:ext cx="7162560" cy="34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165d"/>
                </a:solidFill>
                <a:latin typeface="Arial"/>
              </a:rPr>
              <a:t>Задачи Инспекции на 2019 год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16165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5d"/>
                </a:solidFill>
                <a:latin typeface="Arial"/>
              </a:rPr>
              <a:t>усиление профилактической работы с управляющими организация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16165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16165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5d"/>
                </a:solidFill>
                <a:latin typeface="Arial"/>
              </a:rPr>
              <a:t>продолжение работы по анализу действующего законодательства и подготовка предложе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16165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16165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5d"/>
                </a:solidFill>
                <a:latin typeface="Arial"/>
              </a:rPr>
              <a:t>усиление взаимодействия с органами местного самоуправления, наделенными полномочиями в жилищной сфере в соответствии с Федеральным законом № 131-Ф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16165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16165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5d"/>
                </a:solidFill>
                <a:latin typeface="Arial"/>
              </a:rPr>
              <a:t>формирование плана плановых проверок с применением риск-ориентированного подхо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Группа 2"/>
          <p:cNvGrpSpPr/>
          <p:nvPr/>
        </p:nvGrpSpPr>
        <p:grpSpPr>
          <a:xfrm>
            <a:off x="263520" y="281160"/>
            <a:ext cx="3546360" cy="461880"/>
            <a:chOff x="263520" y="281160"/>
            <a:chExt cx="3546360" cy="461880"/>
          </a:xfrm>
        </p:grpSpPr>
        <p:pic>
          <p:nvPicPr>
            <p:cNvPr id="195" name="Picture 4" descr="\\fs-021\обмен\ПРЕСС-СЛУЖБА\Мероприятия\Май 2019\28.05.2019\Презентация\C__Data_Users_DefApps_AppData_INTERNETEXPLORER_Temp_Saved-Images_novosibirsk_city_coa.gif"/>
            <p:cNvPicPr/>
            <p:nvPr/>
          </p:nvPicPr>
          <p:blipFill>
            <a:blip r:embed="rId1"/>
            <a:stretch/>
          </p:blipFill>
          <p:spPr>
            <a:xfrm>
              <a:off x="263520" y="281160"/>
              <a:ext cx="379080" cy="46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TextBox 1"/>
            <p:cNvSpPr/>
            <p:nvPr/>
          </p:nvSpPr>
          <p:spPr>
            <a:xfrm>
              <a:off x="642600" y="281160"/>
              <a:ext cx="3167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16165d"/>
                  </a:solidFill>
                  <a:latin typeface="Arial"/>
                </a:rPr>
                <a:t>Государственная жилищная инспекция Новосибирской област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Прямоугольник 2"/>
          <p:cNvSpPr/>
          <p:nvPr/>
        </p:nvSpPr>
        <p:spPr>
          <a:xfrm>
            <a:off x="453960" y="1590840"/>
            <a:ext cx="527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5d"/>
                </a:solidFill>
                <a:latin typeface="Arial"/>
              </a:rPr>
              <a:t>СПАСИБО ЗА ВНИМАНИЕ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Прямоугольник 5"/>
          <p:cNvSpPr/>
          <p:nvPr/>
        </p:nvSpPr>
        <p:spPr>
          <a:xfrm>
            <a:off x="452520" y="4013280"/>
            <a:ext cx="527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165d"/>
                </a:solidFill>
                <a:latin typeface="Arial"/>
              </a:rPr>
              <a:t>gji.nso.ru</a:t>
            </a:r>
            <a:br>
              <a:rPr sz="2400"/>
            </a:br>
            <a:r>
              <a:rPr b="1" lang="en-US" sz="2400" spc="-1" strike="noStrike">
                <a:solidFill>
                  <a:srgbClr val="16165d"/>
                </a:solidFill>
                <a:latin typeface="Arial"/>
              </a:rPr>
              <a:t>e-mail: gjinso@nso.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1722600" y="1047600"/>
            <a:ext cx="62784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5d"/>
                </a:solidFill>
                <a:latin typeface="Arial"/>
              </a:rPr>
              <a:t>Государственная жилищная инспекция Новосибирской области является областным исполнительным органом власти, уполномоченным на осуществлени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16165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5d"/>
                </a:solidFill>
                <a:latin typeface="Arial"/>
              </a:rPr>
              <a:t>государственного жилищного надзор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5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16165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5d"/>
                </a:solidFill>
                <a:latin typeface="Arial"/>
              </a:rPr>
              <a:t>лицензионного контроля на территории регио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Группа 2"/>
          <p:cNvGrpSpPr/>
          <p:nvPr/>
        </p:nvGrpSpPr>
        <p:grpSpPr>
          <a:xfrm>
            <a:off x="6218280" y="133200"/>
            <a:ext cx="2690640" cy="368280"/>
            <a:chOff x="6218280" y="133200"/>
            <a:chExt cx="2690640" cy="368280"/>
          </a:xfrm>
        </p:grpSpPr>
        <p:pic>
          <p:nvPicPr>
            <p:cNvPr id="95" name="Picture 4" descr="\\fs-021\обмен\ПРЕСС-СЛУЖБА\Мероприятия\Май 2019\28.05.2019\Презентация\C__Data_Users_DefApps_AppData_INTERNETEXPLORER_Temp_Saved-Images_novosibirsk_city_coa.gif"/>
            <p:cNvPicPr/>
            <p:nvPr/>
          </p:nvPicPr>
          <p:blipFill>
            <a:blip r:embed="rId1"/>
            <a:stretch/>
          </p:blipFill>
          <p:spPr>
            <a:xfrm>
              <a:off x="6218280" y="161280"/>
              <a:ext cx="304560" cy="31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Box 8"/>
            <p:cNvSpPr/>
            <p:nvPr/>
          </p:nvSpPr>
          <p:spPr>
            <a:xfrm>
              <a:off x="6470640" y="13320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16165d"/>
                  </a:solidFill>
                  <a:latin typeface="Arial"/>
                </a:rPr>
                <a:t>Государственная жилищная инспекция Новосибирской области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1"/>
          <p:cNvSpPr/>
          <p:nvPr/>
        </p:nvSpPr>
        <p:spPr>
          <a:xfrm>
            <a:off x="1722600" y="1123920"/>
            <a:ext cx="627840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165d"/>
                </a:solidFill>
                <a:latin typeface="Arial"/>
              </a:rPr>
              <a:t>Инспекция осуществляет контроль посредством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16165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5d"/>
                </a:solidFill>
                <a:latin typeface="Arial"/>
              </a:rPr>
              <a:t>проведения проверок (в том числе предварительных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16165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16165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5d"/>
                </a:solidFill>
                <a:latin typeface="Arial"/>
              </a:rPr>
              <a:t>мероприятий по контролю без взаимодействия с юридическим лиц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16165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16165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5d"/>
                </a:solidFill>
                <a:latin typeface="Arial"/>
              </a:rPr>
              <a:t>мероприятий по систематическому наблюдени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Группа 2"/>
          <p:cNvGrpSpPr/>
          <p:nvPr/>
        </p:nvGrpSpPr>
        <p:grpSpPr>
          <a:xfrm>
            <a:off x="6218280" y="133200"/>
            <a:ext cx="2690640" cy="368280"/>
            <a:chOff x="6218280" y="133200"/>
            <a:chExt cx="2690640" cy="368280"/>
          </a:xfrm>
        </p:grpSpPr>
        <p:pic>
          <p:nvPicPr>
            <p:cNvPr id="99" name="Picture 4" descr="\\fs-021\обмен\ПРЕСС-СЛУЖБА\Мероприятия\Май 2019\28.05.2019\Презентация\C__Data_Users_DefApps_AppData_INTERNETEXPLORER_Temp_Saved-Images_novosibirsk_city_coa.gif"/>
            <p:cNvPicPr/>
            <p:nvPr/>
          </p:nvPicPr>
          <p:blipFill>
            <a:blip r:embed="rId1"/>
            <a:stretch/>
          </p:blipFill>
          <p:spPr>
            <a:xfrm>
              <a:off x="6218280" y="161280"/>
              <a:ext cx="304560" cy="31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Box 8"/>
            <p:cNvSpPr/>
            <p:nvPr/>
          </p:nvSpPr>
          <p:spPr>
            <a:xfrm>
              <a:off x="6470640" y="13320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16165d"/>
                  </a:solidFill>
                  <a:latin typeface="Arial"/>
                </a:rPr>
                <a:t>Государственная жилищная инспекция Новосибирской области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Группа 2"/>
          <p:cNvGrpSpPr/>
          <p:nvPr/>
        </p:nvGrpSpPr>
        <p:grpSpPr>
          <a:xfrm>
            <a:off x="6218280" y="133200"/>
            <a:ext cx="2690640" cy="368280"/>
            <a:chOff x="6218280" y="133200"/>
            <a:chExt cx="2690640" cy="368280"/>
          </a:xfrm>
        </p:grpSpPr>
        <p:pic>
          <p:nvPicPr>
            <p:cNvPr id="102" name="Picture 4" descr="\\fs-021\обмен\ПРЕСС-СЛУЖБА\Мероприятия\Май 2019\28.05.2019\Презентация\C__Data_Users_DefApps_AppData_INTERNETEXPLORER_Temp_Saved-Images_novosibirsk_city_coa.gif"/>
            <p:cNvPicPr/>
            <p:nvPr/>
          </p:nvPicPr>
          <p:blipFill>
            <a:blip r:embed="rId1"/>
            <a:stretch/>
          </p:blipFill>
          <p:spPr>
            <a:xfrm>
              <a:off x="6218280" y="161280"/>
              <a:ext cx="304560" cy="31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Box 8"/>
            <p:cNvSpPr/>
            <p:nvPr/>
          </p:nvSpPr>
          <p:spPr>
            <a:xfrm>
              <a:off x="6470640" y="13320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16165d"/>
                  </a:solidFill>
                  <a:latin typeface="Arial"/>
                </a:rPr>
                <a:t>Государственная жилищная инспекция Новосибирской области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TextBox 5"/>
          <p:cNvSpPr/>
          <p:nvPr/>
        </p:nvSpPr>
        <p:spPr>
          <a:xfrm>
            <a:off x="1593720" y="743040"/>
            <a:ext cx="708660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165d"/>
                </a:solidFill>
                <a:latin typeface="Arial"/>
              </a:rPr>
              <a:t>Основные направления контрольно-надзорной деятельности Инспекции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16165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16165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6165d"/>
                </a:solidFill>
                <a:latin typeface="Arial"/>
              </a:rPr>
              <a:t>проведение проверок соблюдения юридическими лицами, индивидуальными предпринимателями, осуществляющими деятельность по управлению многоквартирными домами на основании лицензии лицензионных требований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16165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16165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6165d"/>
                </a:solidFill>
                <a:latin typeface="Arial"/>
              </a:rPr>
              <a:t>проведение проверок соблюдения органами государственной власти и местного самоуправления, юридическими лицами, индивидуальными предпринимателями и гражданами обязательных требований к использованию и содержанию жилых помещений, порядку их перепланировки и перевода жилого помещения в нежилое, определению состава и содержанию общего имущества в МКД, предоставлению коммунальных услуг, обеспечению энергоэффективности, оснащению приборами учета, обеспечению безопасного использования ВДГО и ВКГ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1"/>
          <p:cNvSpPr/>
          <p:nvPr/>
        </p:nvSpPr>
        <p:spPr>
          <a:xfrm>
            <a:off x="1752480" y="74304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165d"/>
                </a:solidFill>
                <a:latin typeface="Arial"/>
              </a:rPr>
              <a:t>Повышение качества контрольно-надзорных полномоч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Группа 2"/>
          <p:cNvGrpSpPr/>
          <p:nvPr/>
        </p:nvGrpSpPr>
        <p:grpSpPr>
          <a:xfrm>
            <a:off x="6218280" y="133200"/>
            <a:ext cx="2690640" cy="368280"/>
            <a:chOff x="6218280" y="133200"/>
            <a:chExt cx="2690640" cy="368280"/>
          </a:xfrm>
        </p:grpSpPr>
        <p:pic>
          <p:nvPicPr>
            <p:cNvPr id="107" name="Picture 4" descr="\\fs-021\обмен\ПРЕСС-СЛУЖБА\Мероприятия\Май 2019\28.05.2019\Презентация\C__Data_Users_DefApps_AppData_INTERNETEXPLORER_Temp_Saved-Images_novosibirsk_city_coa.gif"/>
            <p:cNvPicPr/>
            <p:nvPr/>
          </p:nvPicPr>
          <p:blipFill>
            <a:blip r:embed="rId1"/>
            <a:stretch/>
          </p:blipFill>
          <p:spPr>
            <a:xfrm>
              <a:off x="6218280" y="161280"/>
              <a:ext cx="304560" cy="31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Box 8"/>
            <p:cNvSpPr/>
            <p:nvPr/>
          </p:nvSpPr>
          <p:spPr>
            <a:xfrm>
              <a:off x="6470640" y="13320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16165d"/>
                  </a:solidFill>
                  <a:latin typeface="Arial"/>
                </a:rPr>
                <a:t>Государственная жилищная инспекция Новосибирской области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TextBox 9"/>
          <p:cNvSpPr/>
          <p:nvPr/>
        </p:nvSpPr>
        <p:spPr>
          <a:xfrm>
            <a:off x="1905120" y="1123920"/>
            <a:ext cx="62784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16165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6165d"/>
                </a:solidFill>
                <a:latin typeface="Arial"/>
              </a:rPr>
              <a:t>Актуализация административных регламентов осуществления контрольно-надзорной деятельности (Приказ ГЖИ НСО от 13.05.2015 №99 «Административный регламент государственной жилищной инспекции Новосибирской области по осуществлению регионального государственного жилищного надзора на территории Новосибирской области»; Приказ ГЖИ НСО от 16.01.2015  №8 «Административный регламент государственной жилищной инспекции Новосибирской области по осуществлению лицензионного контроля предпринимательской деятельности по управлению многоквартирными домами на территории Новосибирской области»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16165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16165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6165d"/>
                </a:solidFill>
                <a:latin typeface="Arial"/>
              </a:rPr>
              <a:t>Актуализация Перечня нормативно-правовых актов, содержащих обязательные требования по видам контроля  (Приказ ГЖИ НСО от 03.10.2017 №80 «Об утверждении порядка ведения перечней нормативных правовых актов, их отдельных частей, содержащих обязательные требования, оценка соблюдения которых является предметом регионального государственного жилищного надзора на территории Новосибирской области и лицензионного контроля предпринимательской деятельности по управлению многоквартирными домами на территории Новосибирской области»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16165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5"/>
          <p:cNvSpPr/>
          <p:nvPr/>
        </p:nvSpPr>
        <p:spPr>
          <a:xfrm>
            <a:off x="1752480" y="666720"/>
            <a:ext cx="655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165d"/>
                </a:solidFill>
                <a:latin typeface="Arial"/>
              </a:rPr>
              <a:t>Программа профилактики правонарушений.</a:t>
            </a:r>
            <a:br>
              <a:rPr sz="1600"/>
            </a:br>
            <a:r>
              <a:rPr b="1" lang="ru-RU" sz="1600" spc="-1" strike="noStrike">
                <a:solidFill>
                  <a:srgbClr val="16165d"/>
                </a:solidFill>
                <a:latin typeface="Arial"/>
              </a:rPr>
              <a:t>Задачи программы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Группа 2"/>
          <p:cNvGrpSpPr/>
          <p:nvPr/>
        </p:nvGrpSpPr>
        <p:grpSpPr>
          <a:xfrm>
            <a:off x="6218280" y="133200"/>
            <a:ext cx="2690640" cy="368280"/>
            <a:chOff x="6218280" y="133200"/>
            <a:chExt cx="2690640" cy="368280"/>
          </a:xfrm>
        </p:grpSpPr>
        <p:pic>
          <p:nvPicPr>
            <p:cNvPr id="112" name="Picture 4" descr="\\fs-021\обмен\ПРЕСС-СЛУЖБА\Мероприятия\Май 2019\28.05.2019\Презентация\C__Data_Users_DefApps_AppData_INTERNETEXPLORER_Temp_Saved-Images_novosibirsk_city_coa.gif"/>
            <p:cNvPicPr/>
            <p:nvPr/>
          </p:nvPicPr>
          <p:blipFill>
            <a:blip r:embed="rId1"/>
            <a:stretch/>
          </p:blipFill>
          <p:spPr>
            <a:xfrm>
              <a:off x="6218280" y="161280"/>
              <a:ext cx="304560" cy="31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Box 10"/>
            <p:cNvSpPr/>
            <p:nvPr/>
          </p:nvSpPr>
          <p:spPr>
            <a:xfrm>
              <a:off x="6470640" y="13320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16165d"/>
                  </a:solidFill>
                  <a:latin typeface="Arial"/>
                </a:rPr>
                <a:t>Государственная жилищная инспекция Новосибирской области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Прямоугольник 7"/>
          <p:cNvSpPr/>
          <p:nvPr/>
        </p:nvSpPr>
        <p:spPr>
          <a:xfrm>
            <a:off x="1874880" y="1428840"/>
            <a:ext cx="6308640" cy="19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16165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6165d"/>
                </a:solidFill>
                <a:latin typeface="Arial"/>
              </a:rPr>
              <a:t>обеспечение открытости контрольно-надзорной деятельности инспекции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16165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16165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6165d"/>
                </a:solidFill>
                <a:latin typeface="Arial"/>
              </a:rPr>
              <a:t>повышение эффективности государственного контроля с учетом внедрения риск-ориентированного подхода к проведению проверок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16165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16165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16165d"/>
                </a:solidFill>
                <a:latin typeface="Arial"/>
              </a:rPr>
              <a:t>повышение правовой грамотности населения Новосибирской области в  сфере управления многоквартирными домами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5"/>
          <p:cNvSpPr/>
          <p:nvPr/>
        </p:nvSpPr>
        <p:spPr>
          <a:xfrm>
            <a:off x="1600200" y="743040"/>
            <a:ext cx="685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165d"/>
                </a:solidFill>
                <a:latin typeface="Arial"/>
              </a:rPr>
              <a:t>Итоги выполнения Программы профилактики правонарушений в 2018 год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Группа 2"/>
          <p:cNvGrpSpPr/>
          <p:nvPr/>
        </p:nvGrpSpPr>
        <p:grpSpPr>
          <a:xfrm>
            <a:off x="6218280" y="133200"/>
            <a:ext cx="2690640" cy="368280"/>
            <a:chOff x="6218280" y="133200"/>
            <a:chExt cx="2690640" cy="368280"/>
          </a:xfrm>
        </p:grpSpPr>
        <p:pic>
          <p:nvPicPr>
            <p:cNvPr id="117" name="Picture 4" descr="\\fs-021\обмен\ПРЕСС-СЛУЖБА\Мероприятия\Май 2019\28.05.2019\Презентация\C__Data_Users_DefApps_AppData_INTERNETEXPLORER_Temp_Saved-Images_novosibirsk_city_coa.gif"/>
            <p:cNvPicPr/>
            <p:nvPr/>
          </p:nvPicPr>
          <p:blipFill>
            <a:blip r:embed="rId1"/>
            <a:stretch/>
          </p:blipFill>
          <p:spPr>
            <a:xfrm>
              <a:off x="6218280" y="161280"/>
              <a:ext cx="304560" cy="31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Box 10"/>
            <p:cNvSpPr/>
            <p:nvPr/>
          </p:nvSpPr>
          <p:spPr>
            <a:xfrm>
              <a:off x="6470640" y="13320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16165d"/>
                  </a:solidFill>
                  <a:latin typeface="Arial"/>
                </a:rPr>
                <a:t>Государственная жилищная инспекция Новосибирской области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9" name=""/>
          <p:cNvGraphicFramePr/>
          <p:nvPr/>
        </p:nvGraphicFramePr>
        <p:xfrm>
          <a:off x="2133720" y="1555920"/>
          <a:ext cx="5943600" cy="2558880"/>
        </p:xfrm>
        <a:graphic>
          <a:graphicData uri="http://schemas.openxmlformats.org/drawingml/2006/table">
            <a:tbl>
              <a:tblPr/>
              <a:tblGrid>
                <a:gridCol w="533160"/>
                <a:gridCol w="2487600"/>
                <a:gridCol w="941400"/>
                <a:gridCol w="990720"/>
                <a:gridCol w="990720"/>
              </a:tblGrid>
              <a:tr h="630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200" spc="-1" strike="noStrike">
                          <a:solidFill>
                            <a:srgbClr val="f2f2f2"/>
                          </a:solidFill>
                          <a:latin typeface="Arial"/>
                        </a:rPr>
                        <a:t>№</a:t>
                      </a:r>
                      <a:r>
                        <a:rPr b="0" lang="ru-RU" sz="1200" spc="-1" strike="noStrike">
                          <a:solidFill>
                            <a:srgbClr val="f2f2f2"/>
                          </a:solidFill>
                          <a:latin typeface="Arial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13680">
                      <a:solidFill>
                        <a:srgbClr val="4432b0"/>
                      </a:solidFill>
                    </a:lnL>
                    <a:lnR w="13680">
                      <a:solidFill>
                        <a:srgbClr val="d9d9d9"/>
                      </a:solidFill>
                    </a:lnR>
                    <a:lnT w="13680">
                      <a:solidFill>
                        <a:srgbClr val="4432b0"/>
                      </a:solidFill>
                    </a:lnT>
                    <a:lnB w="13680">
                      <a:solidFill>
                        <a:srgbClr val="f2f2f2"/>
                      </a:solidFill>
                    </a:lnB>
                    <a:solidFill>
                      <a:srgbClr val="22228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200" spc="-1" strike="noStrike">
                          <a:solidFill>
                            <a:srgbClr val="f2f2f2"/>
                          </a:solidFill>
                          <a:latin typeface="Arial"/>
                        </a:rPr>
                        <a:t>Целевые показатели качества, результативности и эффективности Програм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13680">
                      <a:solidFill>
                        <a:srgbClr val="d9d9d9"/>
                      </a:solidFill>
                    </a:lnL>
                    <a:lnR w="13680">
                      <a:solidFill>
                        <a:srgbClr val="d9d9d9"/>
                      </a:solidFill>
                    </a:lnR>
                    <a:lnT w="13680">
                      <a:solidFill>
                        <a:srgbClr val="4432b0"/>
                      </a:solidFill>
                    </a:lnT>
                    <a:lnB w="4320">
                      <a:solidFill>
                        <a:srgbClr val="2e2ecb"/>
                      </a:solidFill>
                    </a:lnB>
                    <a:solidFill>
                      <a:srgbClr val="22228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200" spc="-1" strike="noStrike">
                          <a:solidFill>
                            <a:srgbClr val="f2f2f2"/>
                          </a:solidFill>
                          <a:latin typeface="Arial"/>
                        </a:rPr>
                        <a:t>Базовый пери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200" spc="-1" strike="noStrike">
                          <a:solidFill>
                            <a:srgbClr val="f2f2f2"/>
                          </a:solidFill>
                          <a:latin typeface="Arial"/>
                        </a:rPr>
                        <a:t>(201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13680">
                      <a:solidFill>
                        <a:srgbClr val="d9d9d9"/>
                      </a:solidFill>
                    </a:lnL>
                    <a:lnR w="13680">
                      <a:solidFill>
                        <a:srgbClr val="d9d9d9"/>
                      </a:solidFill>
                    </a:lnR>
                    <a:lnT w="13680">
                      <a:solidFill>
                        <a:srgbClr val="4432b0"/>
                      </a:solidFill>
                    </a:lnT>
                    <a:lnB w="4320">
                      <a:solidFill>
                        <a:srgbClr val="2e2ecb"/>
                      </a:solidFill>
                    </a:lnB>
                    <a:solidFill>
                      <a:srgbClr val="22228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200" spc="-1" strike="noStrike">
                          <a:solidFill>
                            <a:srgbClr val="f2f2f2"/>
                          </a:solidFill>
                          <a:latin typeface="Arial"/>
                        </a:rPr>
                        <a:t>2018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f2f2f2"/>
                          </a:solidFill>
                          <a:latin typeface="Arial"/>
                        </a:rPr>
                        <a:t>(план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13680">
                      <a:solidFill>
                        <a:srgbClr val="d9d9d9"/>
                      </a:solidFill>
                    </a:lnL>
                    <a:lnR w="13680">
                      <a:solidFill>
                        <a:srgbClr val="d9d9d9"/>
                      </a:solidFill>
                    </a:lnR>
                    <a:lnT w="13680">
                      <a:solidFill>
                        <a:srgbClr val="4432b0"/>
                      </a:solidFill>
                    </a:lnT>
                    <a:lnB w="4320">
                      <a:solidFill>
                        <a:srgbClr val="2e2ecb"/>
                      </a:solidFill>
                    </a:lnB>
                    <a:solidFill>
                      <a:srgbClr val="22228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200" spc="-1" strike="noStrike">
                          <a:solidFill>
                            <a:srgbClr val="f2f2f2"/>
                          </a:solidFill>
                          <a:latin typeface="Arial"/>
                        </a:rPr>
                        <a:t>2018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f2f2f2"/>
                          </a:solidFill>
                          <a:latin typeface="Arial"/>
                        </a:rPr>
                        <a:t>(факт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13680">
                      <a:solidFill>
                        <a:srgbClr val="d9d9d9"/>
                      </a:solidFill>
                    </a:lnL>
                    <a:lnR w="13680">
                      <a:solidFill>
                        <a:srgbClr val="4432b0"/>
                      </a:solidFill>
                    </a:lnR>
                    <a:lnT w="13680">
                      <a:solidFill>
                        <a:srgbClr val="4432b0"/>
                      </a:solidFill>
                    </a:lnT>
                    <a:lnB w="4320">
                      <a:solidFill>
                        <a:srgbClr val="2e2ecb"/>
                      </a:solidFill>
                    </a:lnB>
                    <a:solidFill>
                      <a:srgbClr val="22228b"/>
                    </a:solidFill>
                  </a:tcPr>
                </a:tc>
              </a:tr>
              <a:tr h="631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200" spc="-1" strike="noStrike">
                          <a:solidFill>
                            <a:srgbClr val="f2f2f2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13680">
                      <a:solidFill>
                        <a:srgbClr val="4432b0"/>
                      </a:solidFill>
                    </a:lnL>
                    <a:lnR w="13680">
                      <a:solidFill>
                        <a:srgbClr val="4432b0"/>
                      </a:solidFill>
                    </a:lnR>
                    <a:lnT w="13680">
                      <a:solidFill>
                        <a:srgbClr val="f2f2f2"/>
                      </a:solidFill>
                    </a:lnT>
                    <a:lnB w="13680">
                      <a:solidFill>
                        <a:srgbClr val="f2f2f2"/>
                      </a:solidFill>
                    </a:lnB>
                    <a:solidFill>
                      <a:srgbClr val="22228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200" spc="-1" strike="noStrike">
                          <a:solidFill>
                            <a:srgbClr val="000064"/>
                          </a:solidFill>
                          <a:latin typeface="Arial"/>
                          <a:ea typeface="Calibri"/>
                        </a:rPr>
                        <a:t>Показатель снижения нарушений обязательных требо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13680">
                      <a:solidFill>
                        <a:srgbClr val="4432b0"/>
                      </a:solidFill>
                    </a:lnL>
                    <a:lnR w="13680">
                      <a:solidFill>
                        <a:srgbClr val="4432b0"/>
                      </a:solidFill>
                    </a:lnR>
                    <a:lnT w="4320">
                      <a:solidFill>
                        <a:srgbClr val="2e2ecb"/>
                      </a:solidFill>
                    </a:lnT>
                    <a:lnB w="13680">
                      <a:solidFill>
                        <a:srgbClr val="4432b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200" spc="-1" strike="noStrike">
                          <a:solidFill>
                            <a:srgbClr val="000064"/>
                          </a:solidFill>
                          <a:latin typeface="Arial"/>
                          <a:ea typeface="Calibri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13680">
                      <a:solidFill>
                        <a:srgbClr val="4432b0"/>
                      </a:solidFill>
                    </a:lnL>
                    <a:lnR w="13680">
                      <a:solidFill>
                        <a:srgbClr val="4432b0"/>
                      </a:solidFill>
                    </a:lnR>
                    <a:lnT w="4320">
                      <a:solidFill>
                        <a:srgbClr val="2e2ecb"/>
                      </a:solidFill>
                    </a:lnT>
                    <a:lnB w="13680">
                      <a:solidFill>
                        <a:srgbClr val="4432b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200" spc="-1" strike="noStrike">
                          <a:solidFill>
                            <a:srgbClr val="000064"/>
                          </a:solidFill>
                          <a:latin typeface="Arial"/>
                          <a:ea typeface="Calibri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13680">
                      <a:solidFill>
                        <a:srgbClr val="4432b0"/>
                      </a:solidFill>
                    </a:lnL>
                    <a:lnR w="13680">
                      <a:solidFill>
                        <a:srgbClr val="4432b0"/>
                      </a:solidFill>
                    </a:lnR>
                    <a:lnT w="4320">
                      <a:solidFill>
                        <a:srgbClr val="2e2ecb"/>
                      </a:solidFill>
                    </a:lnT>
                    <a:lnB w="13680">
                      <a:solidFill>
                        <a:srgbClr val="4432b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200" spc="-1" strike="noStrike">
                          <a:solidFill>
                            <a:srgbClr val="000064"/>
                          </a:solidFill>
                          <a:latin typeface="Arial"/>
                          <a:ea typeface="Calibri"/>
                        </a:rPr>
                        <a:t>0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13680">
                      <a:solidFill>
                        <a:srgbClr val="4432b0"/>
                      </a:solidFill>
                    </a:lnL>
                    <a:lnR w="13680">
                      <a:solidFill>
                        <a:srgbClr val="4432b0"/>
                      </a:solidFill>
                    </a:lnR>
                    <a:lnT w="4320">
                      <a:solidFill>
                        <a:srgbClr val="2e2ecb"/>
                      </a:solidFill>
                    </a:lnT>
                    <a:lnB w="13680">
                      <a:solidFill>
                        <a:srgbClr val="4432b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200" spc="-1" strike="noStrike">
                          <a:solidFill>
                            <a:srgbClr val="f2f2f2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13680">
                      <a:solidFill>
                        <a:srgbClr val="4432b0"/>
                      </a:solidFill>
                    </a:lnL>
                    <a:lnR w="13680">
                      <a:solidFill>
                        <a:srgbClr val="4432b0"/>
                      </a:solidFill>
                    </a:lnR>
                    <a:lnT w="13680">
                      <a:solidFill>
                        <a:srgbClr val="f2f2f2"/>
                      </a:solidFill>
                    </a:lnT>
                    <a:lnB w="13680">
                      <a:solidFill>
                        <a:srgbClr val="f2f2f2"/>
                      </a:solidFill>
                    </a:lnB>
                    <a:solidFill>
                      <a:srgbClr val="22228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200" spc="-1" strike="noStrike">
                          <a:solidFill>
                            <a:srgbClr val="000064"/>
                          </a:solidFill>
                          <a:latin typeface="Arial"/>
                          <a:ea typeface="Calibri"/>
                        </a:rPr>
                        <a:t>Показатель степени доверия насе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13680">
                      <a:solidFill>
                        <a:srgbClr val="4432b0"/>
                      </a:solidFill>
                    </a:lnL>
                    <a:lnR w="13680">
                      <a:solidFill>
                        <a:srgbClr val="4432b0"/>
                      </a:solidFill>
                    </a:lnR>
                    <a:lnT w="13680">
                      <a:solidFill>
                        <a:srgbClr val="4432b0"/>
                      </a:solidFill>
                    </a:lnT>
                    <a:lnB w="13680">
                      <a:solidFill>
                        <a:srgbClr val="4432b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200" spc="-1" strike="noStrike">
                          <a:solidFill>
                            <a:srgbClr val="000064"/>
                          </a:solidFill>
                          <a:latin typeface="Arial"/>
                          <a:ea typeface="Calibri"/>
                        </a:rPr>
                        <a:t>0,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13680">
                      <a:solidFill>
                        <a:srgbClr val="4432b0"/>
                      </a:solidFill>
                    </a:lnL>
                    <a:lnR w="13680">
                      <a:solidFill>
                        <a:srgbClr val="4432b0"/>
                      </a:solidFill>
                    </a:lnR>
                    <a:lnT w="13680">
                      <a:solidFill>
                        <a:srgbClr val="4432b0"/>
                      </a:solidFill>
                    </a:lnT>
                    <a:lnB w="13680">
                      <a:solidFill>
                        <a:srgbClr val="4432b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200" spc="-1" strike="noStrike">
                          <a:solidFill>
                            <a:srgbClr val="000064"/>
                          </a:solidFill>
                          <a:latin typeface="Arial"/>
                          <a:ea typeface="Calibri"/>
                        </a:rPr>
                        <a:t>0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13680">
                      <a:solidFill>
                        <a:srgbClr val="4432b0"/>
                      </a:solidFill>
                    </a:lnL>
                    <a:lnR w="13680">
                      <a:solidFill>
                        <a:srgbClr val="4432b0"/>
                      </a:solidFill>
                    </a:lnR>
                    <a:lnT w="13680">
                      <a:solidFill>
                        <a:srgbClr val="4432b0"/>
                      </a:solidFill>
                    </a:lnT>
                    <a:lnB w="13680">
                      <a:solidFill>
                        <a:srgbClr val="4432b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200" spc="-1" strike="noStrike">
                          <a:solidFill>
                            <a:srgbClr val="000064"/>
                          </a:solidFill>
                          <a:latin typeface="Arial"/>
                          <a:ea typeface="Calibri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13680">
                      <a:solidFill>
                        <a:srgbClr val="4432b0"/>
                      </a:solidFill>
                    </a:lnL>
                    <a:lnR w="13680">
                      <a:solidFill>
                        <a:srgbClr val="4432b0"/>
                      </a:solidFill>
                    </a:lnR>
                    <a:lnT w="13680">
                      <a:solidFill>
                        <a:srgbClr val="4432b0"/>
                      </a:solidFill>
                    </a:lnT>
                    <a:lnB w="13680">
                      <a:solidFill>
                        <a:srgbClr val="4432b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200" spc="-1" strike="noStrike">
                          <a:solidFill>
                            <a:srgbClr val="f2f2f2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13680">
                      <a:solidFill>
                        <a:srgbClr val="4432b0"/>
                      </a:solidFill>
                    </a:lnL>
                    <a:lnR w="13680">
                      <a:solidFill>
                        <a:srgbClr val="4432b0"/>
                      </a:solidFill>
                    </a:lnR>
                    <a:lnT w="13680">
                      <a:solidFill>
                        <a:srgbClr val="f2f2f2"/>
                      </a:solidFill>
                    </a:lnT>
                    <a:lnB w="13680">
                      <a:solidFill>
                        <a:srgbClr val="f2f2f2"/>
                      </a:solidFill>
                    </a:lnB>
                    <a:solidFill>
                      <a:srgbClr val="22228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200" spc="-1" strike="noStrike">
                          <a:solidFill>
                            <a:srgbClr val="000064"/>
                          </a:solidFill>
                          <a:latin typeface="Arial"/>
                          <a:ea typeface="Calibri"/>
                        </a:rPr>
                        <a:t>Показатель повышения удовлетворенности гражда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13680">
                      <a:solidFill>
                        <a:srgbClr val="4432b0"/>
                      </a:solidFill>
                    </a:lnL>
                    <a:lnR w="13680">
                      <a:solidFill>
                        <a:srgbClr val="4432b0"/>
                      </a:solidFill>
                    </a:lnR>
                    <a:lnT w="13680">
                      <a:solidFill>
                        <a:srgbClr val="4432b0"/>
                      </a:solidFill>
                    </a:lnT>
                    <a:lnB w="13680">
                      <a:solidFill>
                        <a:srgbClr val="4432b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200" spc="-1" strike="noStrike">
                          <a:solidFill>
                            <a:srgbClr val="000064"/>
                          </a:solidFill>
                          <a:latin typeface="Arial"/>
                          <a:ea typeface="Calibri"/>
                        </a:rPr>
                        <a:t>0,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13680">
                      <a:solidFill>
                        <a:srgbClr val="4432b0"/>
                      </a:solidFill>
                    </a:lnL>
                    <a:lnR w="13680">
                      <a:solidFill>
                        <a:srgbClr val="4432b0"/>
                      </a:solidFill>
                    </a:lnR>
                    <a:lnT w="13680">
                      <a:solidFill>
                        <a:srgbClr val="4432b0"/>
                      </a:solidFill>
                    </a:lnT>
                    <a:lnB w="13680">
                      <a:solidFill>
                        <a:srgbClr val="4432b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200" spc="-1" strike="noStrike">
                          <a:solidFill>
                            <a:srgbClr val="000064"/>
                          </a:solidFill>
                          <a:latin typeface="Arial"/>
                          <a:ea typeface="Calibri"/>
                        </a:rPr>
                        <a:t>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13680">
                      <a:solidFill>
                        <a:srgbClr val="4432b0"/>
                      </a:solidFill>
                    </a:lnL>
                    <a:lnR w="13680">
                      <a:solidFill>
                        <a:srgbClr val="4432b0"/>
                      </a:solidFill>
                    </a:lnR>
                    <a:lnT w="13680">
                      <a:solidFill>
                        <a:srgbClr val="4432b0"/>
                      </a:solidFill>
                    </a:lnT>
                    <a:lnB w="13680">
                      <a:solidFill>
                        <a:srgbClr val="4432b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200" spc="-1" strike="noStrike">
                          <a:solidFill>
                            <a:srgbClr val="000064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13680">
                      <a:solidFill>
                        <a:srgbClr val="4432b0"/>
                      </a:solidFill>
                    </a:lnL>
                    <a:lnR w="13680">
                      <a:solidFill>
                        <a:srgbClr val="4432b0"/>
                      </a:solidFill>
                    </a:lnR>
                    <a:lnT w="13680">
                      <a:solidFill>
                        <a:srgbClr val="4432b0"/>
                      </a:solidFill>
                    </a:lnT>
                    <a:lnB w="13680">
                      <a:solidFill>
                        <a:srgbClr val="4432b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200" spc="-1" strike="noStrike">
                          <a:solidFill>
                            <a:srgbClr val="f2f2f2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13680">
                      <a:solidFill>
                        <a:srgbClr val="4432b0"/>
                      </a:solidFill>
                    </a:lnL>
                    <a:lnR w="13680">
                      <a:solidFill>
                        <a:srgbClr val="4432b0"/>
                      </a:solidFill>
                    </a:lnR>
                    <a:lnT w="13680">
                      <a:solidFill>
                        <a:srgbClr val="f2f2f2"/>
                      </a:solidFill>
                    </a:lnT>
                    <a:lnB w="13680">
                      <a:solidFill>
                        <a:srgbClr val="4432b0"/>
                      </a:solidFill>
                    </a:lnB>
                    <a:solidFill>
                      <a:srgbClr val="22228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200" spc="-1" strike="noStrike">
                          <a:solidFill>
                            <a:srgbClr val="000064"/>
                          </a:solidFill>
                          <a:latin typeface="Arial"/>
                          <a:ea typeface="Calibri"/>
                        </a:rPr>
                        <a:t>Показатель результативности и эффективности Програм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13680">
                      <a:solidFill>
                        <a:srgbClr val="4432b0"/>
                      </a:solidFill>
                    </a:lnL>
                    <a:lnR w="13680">
                      <a:solidFill>
                        <a:srgbClr val="4432b0"/>
                      </a:solidFill>
                    </a:lnR>
                    <a:lnT w="13680">
                      <a:solidFill>
                        <a:srgbClr val="4432b0"/>
                      </a:solidFill>
                    </a:lnT>
                    <a:lnB w="13680">
                      <a:solidFill>
                        <a:srgbClr val="4432b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200" spc="-1" strike="noStrike">
                          <a:solidFill>
                            <a:srgbClr val="000064"/>
                          </a:solidFill>
                          <a:latin typeface="Arial"/>
                          <a:ea typeface="Calibri"/>
                        </a:rPr>
                        <a:t>2,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13680">
                      <a:solidFill>
                        <a:srgbClr val="4432b0"/>
                      </a:solidFill>
                    </a:lnL>
                    <a:lnR w="13680">
                      <a:solidFill>
                        <a:srgbClr val="4432b0"/>
                      </a:solidFill>
                    </a:lnR>
                    <a:lnT w="13680">
                      <a:solidFill>
                        <a:srgbClr val="4432b0"/>
                      </a:solidFill>
                    </a:lnT>
                    <a:lnB w="13680">
                      <a:solidFill>
                        <a:srgbClr val="4432b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200" spc="-1" strike="noStrike">
                          <a:solidFill>
                            <a:srgbClr val="000064"/>
                          </a:solidFill>
                          <a:latin typeface="Arial"/>
                          <a:ea typeface="Calibri"/>
                        </a:rPr>
                        <a:t>2,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13680">
                      <a:solidFill>
                        <a:srgbClr val="4432b0"/>
                      </a:solidFill>
                    </a:lnL>
                    <a:lnR w="13680">
                      <a:solidFill>
                        <a:srgbClr val="4432b0"/>
                      </a:solidFill>
                    </a:lnR>
                    <a:lnT w="13680">
                      <a:solidFill>
                        <a:srgbClr val="4432b0"/>
                      </a:solidFill>
                    </a:lnT>
                    <a:lnB w="13680">
                      <a:solidFill>
                        <a:srgbClr val="4432b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200" spc="-1" strike="noStrike">
                          <a:solidFill>
                            <a:srgbClr val="000064"/>
                          </a:solidFill>
                          <a:latin typeface="Arial"/>
                          <a:ea typeface="Calibri"/>
                        </a:rPr>
                        <a:t>2,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13680">
                      <a:solidFill>
                        <a:srgbClr val="4432b0"/>
                      </a:solidFill>
                    </a:lnL>
                    <a:lnR w="13680">
                      <a:solidFill>
                        <a:srgbClr val="4432b0"/>
                      </a:solidFill>
                    </a:lnR>
                    <a:lnT w="13680">
                      <a:solidFill>
                        <a:srgbClr val="4432b0"/>
                      </a:solidFill>
                    </a:lnT>
                    <a:lnB w="13680">
                      <a:solidFill>
                        <a:srgbClr val="4432b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Прямоугольник 7"/>
          <p:cNvSpPr/>
          <p:nvPr/>
        </p:nvSpPr>
        <p:spPr>
          <a:xfrm>
            <a:off x="2057400" y="4324320"/>
            <a:ext cx="68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6165d"/>
                </a:solidFill>
                <a:latin typeface="Arial"/>
              </a:rPr>
              <a:t>Программа утверждена Приказом ГЖИ НСО от 17.01.2018 №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Группа 2"/>
          <p:cNvGrpSpPr/>
          <p:nvPr/>
        </p:nvGrpSpPr>
        <p:grpSpPr>
          <a:xfrm>
            <a:off x="6218280" y="133200"/>
            <a:ext cx="2690640" cy="368280"/>
            <a:chOff x="6218280" y="133200"/>
            <a:chExt cx="2690640" cy="368280"/>
          </a:xfrm>
        </p:grpSpPr>
        <p:pic>
          <p:nvPicPr>
            <p:cNvPr id="122" name="Picture 4" descr="\\fs-021\обмен\ПРЕСС-СЛУЖБА\Мероприятия\Май 2019\28.05.2019\Презентация\C__Data_Users_DefApps_AppData_INTERNETEXPLORER_Temp_Saved-Images_novosibirsk_city_coa.gif"/>
            <p:cNvPicPr/>
            <p:nvPr/>
          </p:nvPicPr>
          <p:blipFill>
            <a:blip r:embed="rId1"/>
            <a:stretch/>
          </p:blipFill>
          <p:spPr>
            <a:xfrm>
              <a:off x="6218280" y="161280"/>
              <a:ext cx="304560" cy="31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Box 10"/>
            <p:cNvSpPr/>
            <p:nvPr/>
          </p:nvSpPr>
          <p:spPr>
            <a:xfrm>
              <a:off x="6470640" y="13320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16165d"/>
                  </a:solidFill>
                  <a:latin typeface="Arial"/>
                </a:rPr>
                <a:t>Государственная жилищная инспекция Новосибирской области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Прямоугольник 7"/>
          <p:cNvSpPr/>
          <p:nvPr/>
        </p:nvSpPr>
        <p:spPr>
          <a:xfrm>
            <a:off x="1447920" y="666720"/>
            <a:ext cx="7315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165d"/>
                </a:solidFill>
                <a:latin typeface="Arial"/>
              </a:rPr>
              <a:t>Публичное мероприятие: «Результаты правоприменительной практики осуществления регионального государственного жилищного надзора и лицензионного контроля на территории Новосибирской области в 2018 году. Задачи на 2019 год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2" descr="\\fs-021\обмен\ПРЕСС-СЛУЖБА\Материалы на сайт и в СМИ\Публичное итог\3.jpg"/>
          <p:cNvPicPr/>
          <p:nvPr/>
        </p:nvPicPr>
        <p:blipFill>
          <a:blip r:embed="rId2"/>
          <a:stretch/>
        </p:blipFill>
        <p:spPr>
          <a:xfrm>
            <a:off x="1828800" y="1855800"/>
            <a:ext cx="3200400" cy="2401920"/>
          </a:xfrm>
          <a:prstGeom prst="rect">
            <a:avLst/>
          </a:prstGeom>
          <a:ln w="12600">
            <a:solidFill>
              <a:srgbClr val="000064"/>
            </a:solidFill>
            <a:miter/>
          </a:ln>
        </p:spPr>
      </p:pic>
      <p:pic>
        <p:nvPicPr>
          <p:cNvPr id="126" name="Picture 3" descr="\\fs-021\обмен\ПРЕСС-СЛУЖБА\Материалы на сайт и в СМИ\Публичное итог\1.jpg"/>
          <p:cNvPicPr/>
          <p:nvPr/>
        </p:nvPicPr>
        <p:blipFill>
          <a:blip r:embed="rId3"/>
          <a:stretch/>
        </p:blipFill>
        <p:spPr>
          <a:xfrm>
            <a:off x="5330880" y="1855800"/>
            <a:ext cx="3200400" cy="2401920"/>
          </a:xfrm>
          <a:prstGeom prst="rect">
            <a:avLst/>
          </a:prstGeom>
          <a:ln w="12600">
            <a:solidFill>
              <a:srgbClr val="000064"/>
            </a:solidFill>
            <a:miter/>
          </a:ln>
        </p:spPr>
      </p:pic>
    </p:spTree>
  </p:cSld>
  <p:transition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Группа 2"/>
          <p:cNvGrpSpPr/>
          <p:nvPr/>
        </p:nvGrpSpPr>
        <p:grpSpPr>
          <a:xfrm>
            <a:off x="6218280" y="133200"/>
            <a:ext cx="2690640" cy="368280"/>
            <a:chOff x="6218280" y="133200"/>
            <a:chExt cx="2690640" cy="368280"/>
          </a:xfrm>
        </p:grpSpPr>
        <p:pic>
          <p:nvPicPr>
            <p:cNvPr id="128" name="Picture 4" descr="\\fs-021\обмен\ПРЕСС-СЛУЖБА\Мероприятия\Май 2019\28.05.2019\Презентация\C__Data_Users_DefApps_AppData_INTERNETEXPLORER_Temp_Saved-Images_novosibirsk_city_coa.gif"/>
            <p:cNvPicPr/>
            <p:nvPr/>
          </p:nvPicPr>
          <p:blipFill>
            <a:blip r:embed="rId1"/>
            <a:stretch/>
          </p:blipFill>
          <p:spPr>
            <a:xfrm>
              <a:off x="6218280" y="161280"/>
              <a:ext cx="304560" cy="31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Box 10"/>
            <p:cNvSpPr/>
            <p:nvPr/>
          </p:nvSpPr>
          <p:spPr>
            <a:xfrm>
              <a:off x="6470640" y="13320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16165d"/>
                  </a:solidFill>
                  <a:latin typeface="Arial"/>
                </a:rPr>
                <a:t>Государственная жилищная инспекция Новосибирской области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Прямоугольник 5"/>
          <p:cNvSpPr/>
          <p:nvPr/>
        </p:nvSpPr>
        <p:spPr>
          <a:xfrm>
            <a:off x="1600200" y="743040"/>
            <a:ext cx="685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165d"/>
                </a:solidFill>
                <a:latin typeface="Arial"/>
              </a:rPr>
              <a:t>Ежегодный план проведения плановых проверок юридический лиц и индивидуальных предпринимателе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3" descr="\\fs-021\обмен\ПРЕСС-СЛУЖБА\Мероприятия\Август 2019\Фото\Безымянный 11.png"/>
          <p:cNvPicPr/>
          <p:nvPr/>
        </p:nvPicPr>
        <p:blipFill>
          <a:blip r:embed="rId2"/>
          <a:stretch/>
        </p:blipFill>
        <p:spPr>
          <a:xfrm>
            <a:off x="1828800" y="1581120"/>
            <a:ext cx="7078680" cy="3200400"/>
          </a:xfrm>
          <a:prstGeom prst="rect">
            <a:avLst/>
          </a:prstGeom>
          <a:ln w="12600">
            <a:solidFill>
              <a:srgbClr val="000064"/>
            </a:solidFill>
            <a:miter/>
          </a:ln>
        </p:spPr>
      </p:pic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14:41:34Z</dcterms:created>
  <dc:creator>Кондаурова Анастасия Александровна</dc:creator>
  <dc:description/>
  <dc:language>en-US</dc:language>
  <cp:lastModifiedBy>Фетисова Анастасия Игоревна</cp:lastModifiedBy>
  <cp:lastPrinted>2019-05-20T03:59:30Z</cp:lastPrinted>
  <dcterms:modified xsi:type="dcterms:W3CDTF">2019-09-17T04:43:22Z</dcterms:modified>
  <cp:revision>290</cp:revision>
  <dc:subject/>
  <dc:title>Презентация PowerPoint</dc:title>
</cp:coreProperties>
</file>